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15DD39-3021-4A1F-A2C6-555A73B13F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0476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9520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6FB59B-0393-421F-822D-30603267F7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2B247E-DD0C-44E3-8663-535F1C428E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96317B-B1DC-4D36-B8B9-864887A348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80741B-5A72-4CFD-A840-8D9C902816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85800" y="1904760"/>
            <a:ext cx="777240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0ABC11-A7D3-4C9B-8F1F-0A44522250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04760"/>
            <a:ext cx="77724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214E86-CBF3-40B9-9FA5-A70344625B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1F22B8-7F7C-455C-9FB4-6B7D340AE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4EDD05-00F4-43BA-B451-9AF1A293AC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D76685-C637-4E17-838C-B99695E6BB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29635C-FAE0-4445-9AAE-22644AB40B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04760"/>
            <a:ext cx="777240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963452-91AF-4D37-9184-2CE45ACCF2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8227CB-095D-49B3-882A-01B9323ED4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389520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76A2ED-C68C-4B31-AC50-5D85F6C83F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0476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389520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F62B9A-B674-4CE0-B79A-CC596169DD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B46A0B-A850-49ED-B504-75FBBA8896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EA95B1-692F-4C4D-9D77-5586FE0141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04760"/>
            <a:ext cx="77724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BE2CEC-E5CB-4C71-B08E-56A8D21C21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269626-38E6-40AC-9725-31359F03B5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565B29-6A60-4C00-B322-9CAE32E65C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31C929-4D04-482F-9347-1133F19758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47A532-0AA9-4E0A-BF14-7BA1199076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19EAE7-D292-4054-94EF-39903632C0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9520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EFF3BE-B2DF-4D34-B75E-32940AABF0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
          <p:cNvSpPr/>
          <p:nvPr/>
        </p:nvSpPr>
        <p:spPr>
          <a:xfrm>
            <a:off x="54000" y="34920"/>
            <a:ext cx="9037440" cy="6773760"/>
          </a:xfrm>
          <a:custGeom>
            <a:avLst/>
            <a:gdLst/>
            <a:ahLst/>
            <a:rect l="l" t="t" r="r" b="b"/>
            <a:pathLst>
              <a:path w="5693" h="4267">
                <a:moveTo>
                  <a:pt x="2297" y="55"/>
                </a:moveTo>
                <a:cubicBezTo>
                  <a:pt x="2351" y="47"/>
                  <a:pt x="2421" y="72"/>
                  <a:pt x="2505" y="116"/>
                </a:cubicBezTo>
                <a:cubicBezTo>
                  <a:pt x="2588" y="159"/>
                  <a:pt x="2709" y="313"/>
                  <a:pt x="2798" y="314"/>
                </a:cubicBezTo>
                <a:cubicBezTo>
                  <a:pt x="2886" y="314"/>
                  <a:pt x="2974" y="153"/>
                  <a:pt x="3038" y="122"/>
                </a:cubicBezTo>
                <a:cubicBezTo>
                  <a:pt x="3101" y="90"/>
                  <a:pt x="3150" y="106"/>
                  <a:pt x="3182" y="122"/>
                </a:cubicBezTo>
                <a:cubicBezTo>
                  <a:pt x="3214" y="138"/>
                  <a:pt x="3222" y="178"/>
                  <a:pt x="3230" y="218"/>
                </a:cubicBezTo>
                <a:cubicBezTo>
                  <a:pt x="3237" y="257"/>
                  <a:pt x="3214" y="330"/>
                  <a:pt x="3230" y="362"/>
                </a:cubicBezTo>
                <a:cubicBezTo>
                  <a:pt x="3246" y="394"/>
                  <a:pt x="3294" y="410"/>
                  <a:pt x="3326" y="410"/>
                </a:cubicBezTo>
                <a:cubicBezTo>
                  <a:pt x="3358" y="410"/>
                  <a:pt x="3390" y="402"/>
                  <a:pt x="3422" y="362"/>
                </a:cubicBezTo>
                <a:cubicBezTo>
                  <a:pt x="3454" y="322"/>
                  <a:pt x="3478" y="225"/>
                  <a:pt x="3518" y="170"/>
                </a:cubicBezTo>
                <a:cubicBezTo>
                  <a:pt x="3557" y="114"/>
                  <a:pt x="3593" y="51"/>
                  <a:pt x="3662" y="26"/>
                </a:cubicBezTo>
                <a:cubicBezTo>
                  <a:pt x="3730" y="0"/>
                  <a:pt x="3859" y="2"/>
                  <a:pt x="3928" y="16"/>
                </a:cubicBezTo>
                <a:cubicBezTo>
                  <a:pt x="3996" y="29"/>
                  <a:pt x="4038" y="51"/>
                  <a:pt x="4074" y="109"/>
                </a:cubicBezTo>
                <a:cubicBezTo>
                  <a:pt x="4109" y="166"/>
                  <a:pt x="4102" y="301"/>
                  <a:pt x="4142" y="362"/>
                </a:cubicBezTo>
                <a:cubicBezTo>
                  <a:pt x="4181" y="422"/>
                  <a:pt x="4245" y="454"/>
                  <a:pt x="4312" y="470"/>
                </a:cubicBezTo>
                <a:cubicBezTo>
                  <a:pt x="4378" y="485"/>
                  <a:pt x="4483" y="480"/>
                  <a:pt x="4543" y="455"/>
                </a:cubicBezTo>
                <a:cubicBezTo>
                  <a:pt x="4602" y="429"/>
                  <a:pt x="4624" y="369"/>
                  <a:pt x="4670" y="314"/>
                </a:cubicBezTo>
                <a:cubicBezTo>
                  <a:pt x="4715" y="258"/>
                  <a:pt x="4749" y="170"/>
                  <a:pt x="4814" y="122"/>
                </a:cubicBezTo>
                <a:cubicBezTo>
                  <a:pt x="4878" y="73"/>
                  <a:pt x="4966" y="42"/>
                  <a:pt x="5054" y="26"/>
                </a:cubicBezTo>
                <a:cubicBezTo>
                  <a:pt x="5142" y="10"/>
                  <a:pt x="5254" y="2"/>
                  <a:pt x="5342" y="26"/>
                </a:cubicBezTo>
                <a:cubicBezTo>
                  <a:pt x="5430" y="50"/>
                  <a:pt x="5526" y="106"/>
                  <a:pt x="5582" y="170"/>
                </a:cubicBezTo>
                <a:cubicBezTo>
                  <a:pt x="5638" y="234"/>
                  <a:pt x="5662" y="346"/>
                  <a:pt x="5678" y="410"/>
                </a:cubicBezTo>
                <a:cubicBezTo>
                  <a:pt x="5693" y="473"/>
                  <a:pt x="5687" y="497"/>
                  <a:pt x="5678" y="554"/>
                </a:cubicBezTo>
                <a:cubicBezTo>
                  <a:pt x="5668" y="610"/>
                  <a:pt x="5644" y="691"/>
                  <a:pt x="5620" y="747"/>
                </a:cubicBezTo>
                <a:cubicBezTo>
                  <a:pt x="5596" y="803"/>
                  <a:pt x="5563" y="838"/>
                  <a:pt x="5534" y="890"/>
                </a:cubicBezTo>
                <a:cubicBezTo>
                  <a:pt x="5504" y="941"/>
                  <a:pt x="5472" y="987"/>
                  <a:pt x="5443" y="1055"/>
                </a:cubicBezTo>
                <a:cubicBezTo>
                  <a:pt x="5413" y="1122"/>
                  <a:pt x="5383" y="1226"/>
                  <a:pt x="5359" y="1293"/>
                </a:cubicBezTo>
                <a:cubicBezTo>
                  <a:pt x="5334" y="1359"/>
                  <a:pt x="5300" y="1403"/>
                  <a:pt x="5297" y="1455"/>
                </a:cubicBezTo>
                <a:cubicBezTo>
                  <a:pt x="5293" y="1506"/>
                  <a:pt x="5320" y="1559"/>
                  <a:pt x="5336" y="1601"/>
                </a:cubicBezTo>
                <a:cubicBezTo>
                  <a:pt x="5351" y="1642"/>
                  <a:pt x="5348" y="1656"/>
                  <a:pt x="5390" y="1706"/>
                </a:cubicBezTo>
                <a:cubicBezTo>
                  <a:pt x="5431" y="1755"/>
                  <a:pt x="5542" y="1842"/>
                  <a:pt x="5582" y="1898"/>
                </a:cubicBezTo>
                <a:cubicBezTo>
                  <a:pt x="5621" y="1953"/>
                  <a:pt x="5630" y="1978"/>
                  <a:pt x="5630" y="2042"/>
                </a:cubicBezTo>
                <a:cubicBezTo>
                  <a:pt x="5630" y="2106"/>
                  <a:pt x="5621" y="2218"/>
                  <a:pt x="5582" y="2282"/>
                </a:cubicBezTo>
                <a:cubicBezTo>
                  <a:pt x="5542" y="2345"/>
                  <a:pt x="5453" y="2394"/>
                  <a:pt x="5390" y="2426"/>
                </a:cubicBezTo>
                <a:cubicBezTo>
                  <a:pt x="5326" y="2457"/>
                  <a:pt x="5237" y="2450"/>
                  <a:pt x="5198" y="2474"/>
                </a:cubicBezTo>
                <a:cubicBezTo>
                  <a:pt x="5158" y="2497"/>
                  <a:pt x="5134" y="2538"/>
                  <a:pt x="5150" y="2570"/>
                </a:cubicBezTo>
                <a:cubicBezTo>
                  <a:pt x="5166" y="2602"/>
                  <a:pt x="5246" y="2626"/>
                  <a:pt x="5294" y="2666"/>
                </a:cubicBezTo>
                <a:cubicBezTo>
                  <a:pt x="5342" y="2706"/>
                  <a:pt x="5422" y="2762"/>
                  <a:pt x="5438" y="2810"/>
                </a:cubicBezTo>
                <a:cubicBezTo>
                  <a:pt x="5453" y="2857"/>
                  <a:pt x="5406" y="2922"/>
                  <a:pt x="5390" y="2954"/>
                </a:cubicBezTo>
                <a:cubicBezTo>
                  <a:pt x="5374" y="2986"/>
                  <a:pt x="5349" y="2978"/>
                  <a:pt x="5342" y="3002"/>
                </a:cubicBezTo>
                <a:cubicBezTo>
                  <a:pt x="5334" y="3025"/>
                  <a:pt x="5326" y="3058"/>
                  <a:pt x="5342" y="3098"/>
                </a:cubicBezTo>
                <a:cubicBezTo>
                  <a:pt x="5358" y="3138"/>
                  <a:pt x="5398" y="3186"/>
                  <a:pt x="5438" y="3242"/>
                </a:cubicBezTo>
                <a:cubicBezTo>
                  <a:pt x="5477" y="3297"/>
                  <a:pt x="5542" y="3370"/>
                  <a:pt x="5582" y="3434"/>
                </a:cubicBezTo>
                <a:cubicBezTo>
                  <a:pt x="5621" y="3497"/>
                  <a:pt x="5670" y="3546"/>
                  <a:pt x="5678" y="3626"/>
                </a:cubicBezTo>
                <a:cubicBezTo>
                  <a:pt x="5686" y="3706"/>
                  <a:pt x="5670" y="3834"/>
                  <a:pt x="5630" y="3914"/>
                </a:cubicBezTo>
                <a:cubicBezTo>
                  <a:pt x="5590" y="3994"/>
                  <a:pt x="5502" y="4057"/>
                  <a:pt x="5438" y="4106"/>
                </a:cubicBezTo>
                <a:cubicBezTo>
                  <a:pt x="5373" y="4154"/>
                  <a:pt x="5317" y="4178"/>
                  <a:pt x="5246" y="4202"/>
                </a:cubicBezTo>
                <a:cubicBezTo>
                  <a:pt x="5174" y="4225"/>
                  <a:pt x="5086" y="4242"/>
                  <a:pt x="5006" y="4250"/>
                </a:cubicBezTo>
                <a:cubicBezTo>
                  <a:pt x="4926" y="4258"/>
                  <a:pt x="4860" y="4256"/>
                  <a:pt x="4766" y="4250"/>
                </a:cubicBezTo>
                <a:cubicBezTo>
                  <a:pt x="4671" y="4243"/>
                  <a:pt x="4528" y="4230"/>
                  <a:pt x="4436" y="4209"/>
                </a:cubicBezTo>
                <a:cubicBezTo>
                  <a:pt x="4343" y="4188"/>
                  <a:pt x="4270" y="4170"/>
                  <a:pt x="4212" y="4124"/>
                </a:cubicBezTo>
                <a:cubicBezTo>
                  <a:pt x="4153" y="4077"/>
                  <a:pt x="4121" y="4003"/>
                  <a:pt x="4082" y="3932"/>
                </a:cubicBezTo>
                <a:cubicBezTo>
                  <a:pt x="4042" y="3860"/>
                  <a:pt x="4015" y="3700"/>
                  <a:pt x="3974" y="3693"/>
                </a:cubicBezTo>
                <a:cubicBezTo>
                  <a:pt x="3932" y="3685"/>
                  <a:pt x="3896" y="3827"/>
                  <a:pt x="3835" y="3886"/>
                </a:cubicBezTo>
                <a:cubicBezTo>
                  <a:pt x="3773" y="3944"/>
                  <a:pt x="3689" y="3995"/>
                  <a:pt x="3605" y="4047"/>
                </a:cubicBezTo>
                <a:cubicBezTo>
                  <a:pt x="3520" y="4098"/>
                  <a:pt x="3406" y="4167"/>
                  <a:pt x="3328" y="4193"/>
                </a:cubicBezTo>
                <a:cubicBezTo>
                  <a:pt x="3249" y="4218"/>
                  <a:pt x="3206" y="4216"/>
                  <a:pt x="3134" y="4202"/>
                </a:cubicBezTo>
                <a:cubicBezTo>
                  <a:pt x="3061" y="4187"/>
                  <a:pt x="2966" y="4138"/>
                  <a:pt x="2894" y="4106"/>
                </a:cubicBezTo>
                <a:cubicBezTo>
                  <a:pt x="2821" y="4073"/>
                  <a:pt x="2757" y="4029"/>
                  <a:pt x="2702" y="4010"/>
                </a:cubicBezTo>
                <a:cubicBezTo>
                  <a:pt x="2646" y="3990"/>
                  <a:pt x="2610" y="3973"/>
                  <a:pt x="2558" y="3986"/>
                </a:cubicBezTo>
                <a:cubicBezTo>
                  <a:pt x="2505" y="3998"/>
                  <a:pt x="2463" y="4066"/>
                  <a:pt x="2389" y="4086"/>
                </a:cubicBezTo>
                <a:cubicBezTo>
                  <a:pt x="2314" y="4105"/>
                  <a:pt x="2187" y="4121"/>
                  <a:pt x="2112" y="4101"/>
                </a:cubicBezTo>
                <a:cubicBezTo>
                  <a:pt x="2036" y="4080"/>
                  <a:pt x="2008" y="3990"/>
                  <a:pt x="1934" y="3962"/>
                </a:cubicBezTo>
                <a:cubicBezTo>
                  <a:pt x="1859" y="3933"/>
                  <a:pt x="1738" y="3924"/>
                  <a:pt x="1666" y="3932"/>
                </a:cubicBezTo>
                <a:cubicBezTo>
                  <a:pt x="1594" y="3940"/>
                  <a:pt x="1553" y="3973"/>
                  <a:pt x="1502" y="4010"/>
                </a:cubicBezTo>
                <a:cubicBezTo>
                  <a:pt x="1450" y="4046"/>
                  <a:pt x="1413" y="4114"/>
                  <a:pt x="1358" y="4154"/>
                </a:cubicBezTo>
                <a:cubicBezTo>
                  <a:pt x="1302" y="4193"/>
                  <a:pt x="1238" y="4234"/>
                  <a:pt x="1166" y="4250"/>
                </a:cubicBezTo>
                <a:cubicBezTo>
                  <a:pt x="1094" y="4266"/>
                  <a:pt x="1015" y="4267"/>
                  <a:pt x="926" y="4250"/>
                </a:cubicBezTo>
                <a:cubicBezTo>
                  <a:pt x="836" y="4232"/>
                  <a:pt x="707" y="4177"/>
                  <a:pt x="628" y="4147"/>
                </a:cubicBezTo>
                <a:cubicBezTo>
                  <a:pt x="548" y="4116"/>
                  <a:pt x="508" y="4113"/>
                  <a:pt x="451" y="4070"/>
                </a:cubicBezTo>
                <a:cubicBezTo>
                  <a:pt x="393" y="4026"/>
                  <a:pt x="313" y="3975"/>
                  <a:pt x="281" y="3886"/>
                </a:cubicBezTo>
                <a:cubicBezTo>
                  <a:pt x="248" y="3796"/>
                  <a:pt x="282" y="3605"/>
                  <a:pt x="254" y="3530"/>
                </a:cubicBezTo>
                <a:cubicBezTo>
                  <a:pt x="225" y="3454"/>
                  <a:pt x="150" y="3482"/>
                  <a:pt x="110" y="3434"/>
                </a:cubicBezTo>
                <a:cubicBezTo>
                  <a:pt x="70" y="3386"/>
                  <a:pt x="25" y="3306"/>
                  <a:pt x="14" y="3242"/>
                </a:cubicBezTo>
                <a:cubicBezTo>
                  <a:pt x="2" y="3177"/>
                  <a:pt x="17" y="3111"/>
                  <a:pt x="43" y="3047"/>
                </a:cubicBezTo>
                <a:cubicBezTo>
                  <a:pt x="68" y="2982"/>
                  <a:pt x="106" y="2910"/>
                  <a:pt x="166" y="2855"/>
                </a:cubicBezTo>
                <a:cubicBezTo>
                  <a:pt x="225" y="2799"/>
                  <a:pt x="335" y="2753"/>
                  <a:pt x="398" y="2714"/>
                </a:cubicBezTo>
                <a:cubicBezTo>
                  <a:pt x="460" y="2674"/>
                  <a:pt x="510" y="2658"/>
                  <a:pt x="542" y="2618"/>
                </a:cubicBezTo>
                <a:cubicBezTo>
                  <a:pt x="574" y="2578"/>
                  <a:pt x="610" y="2528"/>
                  <a:pt x="590" y="2474"/>
                </a:cubicBezTo>
                <a:cubicBezTo>
                  <a:pt x="569" y="2419"/>
                  <a:pt x="492" y="2333"/>
                  <a:pt x="420" y="2293"/>
                </a:cubicBezTo>
                <a:cubicBezTo>
                  <a:pt x="347" y="2252"/>
                  <a:pt x="223" y="2256"/>
                  <a:pt x="158" y="2234"/>
                </a:cubicBezTo>
                <a:cubicBezTo>
                  <a:pt x="92" y="2211"/>
                  <a:pt x="51" y="2194"/>
                  <a:pt x="28" y="2155"/>
                </a:cubicBezTo>
                <a:cubicBezTo>
                  <a:pt x="4" y="2115"/>
                  <a:pt x="0" y="2044"/>
                  <a:pt x="14" y="1994"/>
                </a:cubicBezTo>
                <a:cubicBezTo>
                  <a:pt x="27" y="1943"/>
                  <a:pt x="62" y="1898"/>
                  <a:pt x="110" y="1850"/>
                </a:cubicBezTo>
                <a:cubicBezTo>
                  <a:pt x="158" y="1802"/>
                  <a:pt x="269" y="1754"/>
                  <a:pt x="302" y="1706"/>
                </a:cubicBezTo>
                <a:cubicBezTo>
                  <a:pt x="334" y="1657"/>
                  <a:pt x="301" y="1600"/>
                  <a:pt x="302" y="1562"/>
                </a:cubicBezTo>
                <a:cubicBezTo>
                  <a:pt x="302" y="1524"/>
                  <a:pt x="287" y="1512"/>
                  <a:pt x="304" y="1478"/>
                </a:cubicBezTo>
                <a:cubicBezTo>
                  <a:pt x="320" y="1443"/>
                  <a:pt x="396" y="1396"/>
                  <a:pt x="404" y="1355"/>
                </a:cubicBezTo>
                <a:cubicBezTo>
                  <a:pt x="411" y="1314"/>
                  <a:pt x="384" y="1277"/>
                  <a:pt x="351" y="1232"/>
                </a:cubicBezTo>
                <a:cubicBezTo>
                  <a:pt x="318" y="1186"/>
                  <a:pt x="254" y="1134"/>
                  <a:pt x="206" y="1082"/>
                </a:cubicBezTo>
                <a:cubicBezTo>
                  <a:pt x="157" y="1029"/>
                  <a:pt x="89" y="979"/>
                  <a:pt x="58" y="916"/>
                </a:cubicBezTo>
                <a:cubicBezTo>
                  <a:pt x="26" y="852"/>
                  <a:pt x="13" y="774"/>
                  <a:pt x="14" y="698"/>
                </a:cubicBezTo>
                <a:cubicBezTo>
                  <a:pt x="14" y="621"/>
                  <a:pt x="38" y="529"/>
                  <a:pt x="62" y="458"/>
                </a:cubicBezTo>
                <a:cubicBezTo>
                  <a:pt x="85" y="386"/>
                  <a:pt x="118" y="321"/>
                  <a:pt x="158" y="266"/>
                </a:cubicBezTo>
                <a:cubicBezTo>
                  <a:pt x="197" y="210"/>
                  <a:pt x="237" y="155"/>
                  <a:pt x="302" y="122"/>
                </a:cubicBezTo>
                <a:cubicBezTo>
                  <a:pt x="366" y="88"/>
                  <a:pt x="455" y="71"/>
                  <a:pt x="543" y="63"/>
                </a:cubicBezTo>
                <a:cubicBezTo>
                  <a:pt x="631" y="55"/>
                  <a:pt x="750" y="48"/>
                  <a:pt x="830" y="74"/>
                </a:cubicBezTo>
                <a:cubicBezTo>
                  <a:pt x="909" y="99"/>
                  <a:pt x="974" y="162"/>
                  <a:pt x="1022" y="218"/>
                </a:cubicBezTo>
                <a:cubicBezTo>
                  <a:pt x="1070" y="274"/>
                  <a:pt x="1078" y="374"/>
                  <a:pt x="1118" y="410"/>
                </a:cubicBezTo>
                <a:cubicBezTo>
                  <a:pt x="1157" y="445"/>
                  <a:pt x="1211" y="443"/>
                  <a:pt x="1258" y="432"/>
                </a:cubicBezTo>
                <a:cubicBezTo>
                  <a:pt x="1304" y="420"/>
                  <a:pt x="1350" y="376"/>
                  <a:pt x="1397" y="340"/>
                </a:cubicBezTo>
                <a:cubicBezTo>
                  <a:pt x="1443" y="304"/>
                  <a:pt x="1479" y="223"/>
                  <a:pt x="1535" y="216"/>
                </a:cubicBezTo>
                <a:cubicBezTo>
                  <a:pt x="1590" y="208"/>
                  <a:pt x="1672" y="281"/>
                  <a:pt x="1728" y="293"/>
                </a:cubicBezTo>
                <a:cubicBezTo>
                  <a:pt x="1783" y="304"/>
                  <a:pt x="1813" y="314"/>
                  <a:pt x="1866" y="286"/>
                </a:cubicBezTo>
                <a:cubicBezTo>
                  <a:pt x="1918" y="257"/>
                  <a:pt x="1971" y="162"/>
                  <a:pt x="2043" y="124"/>
                </a:cubicBezTo>
                <a:cubicBezTo>
                  <a:pt x="2114" y="85"/>
                  <a:pt x="2243" y="63"/>
                  <a:pt x="2297" y="55"/>
                </a:cubicBezTo>
                <a:close/>
              </a:path>
            </a:pathLst>
          </a:custGeom>
          <a:solidFill>
            <a:srgbClr val="ffea18"/>
          </a:solidFill>
          <a:ln w="19080">
            <a:solidFill>
              <a:srgbClr val="3d383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04760"/>
            <a:ext cx="7772400" cy="3809880"/>
          </a:xfrm>
          <a:prstGeom prst="rect">
            <a:avLst/>
          </a:prstGeom>
          <a:noFill/>
          <a:ln w="0">
            <a:noFill/>
          </a:ln>
        </p:spPr>
        <p:txBody>
          <a:bodyPr lIns="90000" rIns="90000" tIns="46800" bIns="46800" anchor="t">
            <a:normAutofit fontScale="92000"/>
          </a:bodyPr>
          <a:p>
            <a:pPr marL="315360" indent="-31536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83280" indent="-2628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51560" indent="-21024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72040" indent="-21024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92520" indent="-21024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92520" indent="-2102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92520" indent="-2102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ftr" idx="1"/>
          </p:nvPr>
        </p:nvSpPr>
        <p:spPr>
          <a:xfrm>
            <a:off x="3124080" y="57913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6553080" y="57913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B223-FFB5-4641-BD70-7B3FE240BC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532800" y="5791320"/>
            <a:ext cx="97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pter 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2" name=""/>
          <p:cNvSpPr/>
          <p:nvPr/>
        </p:nvSpPr>
        <p:spPr>
          <a:xfrm>
            <a:off x="54000" y="34920"/>
            <a:ext cx="9037440" cy="6773760"/>
          </a:xfrm>
          <a:custGeom>
            <a:avLst/>
            <a:gdLst/>
            <a:ahLst/>
            <a:rect l="l" t="t" r="r" b="b"/>
            <a:pathLst>
              <a:path w="5693" h="4267">
                <a:moveTo>
                  <a:pt x="2297" y="55"/>
                </a:moveTo>
                <a:cubicBezTo>
                  <a:pt x="2351" y="47"/>
                  <a:pt x="2421" y="72"/>
                  <a:pt x="2505" y="116"/>
                </a:cubicBezTo>
                <a:cubicBezTo>
                  <a:pt x="2588" y="159"/>
                  <a:pt x="2709" y="313"/>
                  <a:pt x="2798" y="314"/>
                </a:cubicBezTo>
                <a:cubicBezTo>
                  <a:pt x="2886" y="314"/>
                  <a:pt x="2974" y="153"/>
                  <a:pt x="3038" y="122"/>
                </a:cubicBezTo>
                <a:cubicBezTo>
                  <a:pt x="3101" y="90"/>
                  <a:pt x="3150" y="106"/>
                  <a:pt x="3182" y="122"/>
                </a:cubicBezTo>
                <a:cubicBezTo>
                  <a:pt x="3214" y="138"/>
                  <a:pt x="3222" y="178"/>
                  <a:pt x="3230" y="218"/>
                </a:cubicBezTo>
                <a:cubicBezTo>
                  <a:pt x="3237" y="257"/>
                  <a:pt x="3214" y="330"/>
                  <a:pt x="3230" y="362"/>
                </a:cubicBezTo>
                <a:cubicBezTo>
                  <a:pt x="3246" y="394"/>
                  <a:pt x="3294" y="410"/>
                  <a:pt x="3326" y="410"/>
                </a:cubicBezTo>
                <a:cubicBezTo>
                  <a:pt x="3358" y="410"/>
                  <a:pt x="3390" y="402"/>
                  <a:pt x="3422" y="362"/>
                </a:cubicBezTo>
                <a:cubicBezTo>
                  <a:pt x="3454" y="322"/>
                  <a:pt x="3478" y="225"/>
                  <a:pt x="3518" y="170"/>
                </a:cubicBezTo>
                <a:cubicBezTo>
                  <a:pt x="3557" y="114"/>
                  <a:pt x="3593" y="51"/>
                  <a:pt x="3662" y="26"/>
                </a:cubicBezTo>
                <a:cubicBezTo>
                  <a:pt x="3730" y="0"/>
                  <a:pt x="3859" y="2"/>
                  <a:pt x="3928" y="16"/>
                </a:cubicBezTo>
                <a:cubicBezTo>
                  <a:pt x="3996" y="29"/>
                  <a:pt x="4038" y="51"/>
                  <a:pt x="4074" y="109"/>
                </a:cubicBezTo>
                <a:cubicBezTo>
                  <a:pt x="4109" y="166"/>
                  <a:pt x="4102" y="301"/>
                  <a:pt x="4142" y="362"/>
                </a:cubicBezTo>
                <a:cubicBezTo>
                  <a:pt x="4181" y="422"/>
                  <a:pt x="4245" y="454"/>
                  <a:pt x="4312" y="470"/>
                </a:cubicBezTo>
                <a:cubicBezTo>
                  <a:pt x="4378" y="485"/>
                  <a:pt x="4483" y="480"/>
                  <a:pt x="4543" y="455"/>
                </a:cubicBezTo>
                <a:cubicBezTo>
                  <a:pt x="4602" y="429"/>
                  <a:pt x="4624" y="369"/>
                  <a:pt x="4670" y="314"/>
                </a:cubicBezTo>
                <a:cubicBezTo>
                  <a:pt x="4715" y="258"/>
                  <a:pt x="4749" y="170"/>
                  <a:pt x="4814" y="122"/>
                </a:cubicBezTo>
                <a:cubicBezTo>
                  <a:pt x="4878" y="73"/>
                  <a:pt x="4966" y="42"/>
                  <a:pt x="5054" y="26"/>
                </a:cubicBezTo>
                <a:cubicBezTo>
                  <a:pt x="5142" y="10"/>
                  <a:pt x="5254" y="2"/>
                  <a:pt x="5342" y="26"/>
                </a:cubicBezTo>
                <a:cubicBezTo>
                  <a:pt x="5430" y="50"/>
                  <a:pt x="5526" y="106"/>
                  <a:pt x="5582" y="170"/>
                </a:cubicBezTo>
                <a:cubicBezTo>
                  <a:pt x="5638" y="234"/>
                  <a:pt x="5662" y="346"/>
                  <a:pt x="5678" y="410"/>
                </a:cubicBezTo>
                <a:cubicBezTo>
                  <a:pt x="5693" y="473"/>
                  <a:pt x="5687" y="497"/>
                  <a:pt x="5678" y="554"/>
                </a:cubicBezTo>
                <a:cubicBezTo>
                  <a:pt x="5668" y="610"/>
                  <a:pt x="5644" y="691"/>
                  <a:pt x="5620" y="747"/>
                </a:cubicBezTo>
                <a:cubicBezTo>
                  <a:pt x="5596" y="803"/>
                  <a:pt x="5563" y="838"/>
                  <a:pt x="5534" y="890"/>
                </a:cubicBezTo>
                <a:cubicBezTo>
                  <a:pt x="5504" y="941"/>
                  <a:pt x="5472" y="987"/>
                  <a:pt x="5443" y="1055"/>
                </a:cubicBezTo>
                <a:cubicBezTo>
                  <a:pt x="5413" y="1122"/>
                  <a:pt x="5383" y="1226"/>
                  <a:pt x="5359" y="1293"/>
                </a:cubicBezTo>
                <a:cubicBezTo>
                  <a:pt x="5334" y="1359"/>
                  <a:pt x="5300" y="1403"/>
                  <a:pt x="5297" y="1455"/>
                </a:cubicBezTo>
                <a:cubicBezTo>
                  <a:pt x="5293" y="1506"/>
                  <a:pt x="5320" y="1559"/>
                  <a:pt x="5336" y="1601"/>
                </a:cubicBezTo>
                <a:cubicBezTo>
                  <a:pt x="5351" y="1642"/>
                  <a:pt x="5348" y="1656"/>
                  <a:pt x="5390" y="1706"/>
                </a:cubicBezTo>
                <a:cubicBezTo>
                  <a:pt x="5431" y="1755"/>
                  <a:pt x="5542" y="1842"/>
                  <a:pt x="5582" y="1898"/>
                </a:cubicBezTo>
                <a:cubicBezTo>
                  <a:pt x="5621" y="1953"/>
                  <a:pt x="5630" y="1978"/>
                  <a:pt x="5630" y="2042"/>
                </a:cubicBezTo>
                <a:cubicBezTo>
                  <a:pt x="5630" y="2106"/>
                  <a:pt x="5621" y="2218"/>
                  <a:pt x="5582" y="2282"/>
                </a:cubicBezTo>
                <a:cubicBezTo>
                  <a:pt x="5542" y="2345"/>
                  <a:pt x="5453" y="2394"/>
                  <a:pt x="5390" y="2426"/>
                </a:cubicBezTo>
                <a:cubicBezTo>
                  <a:pt x="5326" y="2457"/>
                  <a:pt x="5237" y="2450"/>
                  <a:pt x="5198" y="2474"/>
                </a:cubicBezTo>
                <a:cubicBezTo>
                  <a:pt x="5158" y="2497"/>
                  <a:pt x="5134" y="2538"/>
                  <a:pt x="5150" y="2570"/>
                </a:cubicBezTo>
                <a:cubicBezTo>
                  <a:pt x="5166" y="2602"/>
                  <a:pt x="5246" y="2626"/>
                  <a:pt x="5294" y="2666"/>
                </a:cubicBezTo>
                <a:cubicBezTo>
                  <a:pt x="5342" y="2706"/>
                  <a:pt x="5422" y="2762"/>
                  <a:pt x="5438" y="2810"/>
                </a:cubicBezTo>
                <a:cubicBezTo>
                  <a:pt x="5453" y="2857"/>
                  <a:pt x="5406" y="2922"/>
                  <a:pt x="5390" y="2954"/>
                </a:cubicBezTo>
                <a:cubicBezTo>
                  <a:pt x="5374" y="2986"/>
                  <a:pt x="5349" y="2978"/>
                  <a:pt x="5342" y="3002"/>
                </a:cubicBezTo>
                <a:cubicBezTo>
                  <a:pt x="5334" y="3025"/>
                  <a:pt x="5326" y="3058"/>
                  <a:pt x="5342" y="3098"/>
                </a:cubicBezTo>
                <a:cubicBezTo>
                  <a:pt x="5358" y="3138"/>
                  <a:pt x="5398" y="3186"/>
                  <a:pt x="5438" y="3242"/>
                </a:cubicBezTo>
                <a:cubicBezTo>
                  <a:pt x="5477" y="3297"/>
                  <a:pt x="5542" y="3370"/>
                  <a:pt x="5582" y="3434"/>
                </a:cubicBezTo>
                <a:cubicBezTo>
                  <a:pt x="5621" y="3497"/>
                  <a:pt x="5670" y="3546"/>
                  <a:pt x="5678" y="3626"/>
                </a:cubicBezTo>
                <a:cubicBezTo>
                  <a:pt x="5686" y="3706"/>
                  <a:pt x="5670" y="3834"/>
                  <a:pt x="5630" y="3914"/>
                </a:cubicBezTo>
                <a:cubicBezTo>
                  <a:pt x="5590" y="3994"/>
                  <a:pt x="5502" y="4057"/>
                  <a:pt x="5438" y="4106"/>
                </a:cubicBezTo>
                <a:cubicBezTo>
                  <a:pt x="5373" y="4154"/>
                  <a:pt x="5317" y="4178"/>
                  <a:pt x="5246" y="4202"/>
                </a:cubicBezTo>
                <a:cubicBezTo>
                  <a:pt x="5174" y="4225"/>
                  <a:pt x="5086" y="4242"/>
                  <a:pt x="5006" y="4250"/>
                </a:cubicBezTo>
                <a:cubicBezTo>
                  <a:pt x="4926" y="4258"/>
                  <a:pt x="4860" y="4256"/>
                  <a:pt x="4766" y="4250"/>
                </a:cubicBezTo>
                <a:cubicBezTo>
                  <a:pt x="4671" y="4243"/>
                  <a:pt x="4528" y="4230"/>
                  <a:pt x="4436" y="4209"/>
                </a:cubicBezTo>
                <a:cubicBezTo>
                  <a:pt x="4343" y="4188"/>
                  <a:pt x="4270" y="4170"/>
                  <a:pt x="4212" y="4124"/>
                </a:cubicBezTo>
                <a:cubicBezTo>
                  <a:pt x="4153" y="4077"/>
                  <a:pt x="4121" y="4003"/>
                  <a:pt x="4082" y="3932"/>
                </a:cubicBezTo>
                <a:cubicBezTo>
                  <a:pt x="4042" y="3860"/>
                  <a:pt x="4015" y="3700"/>
                  <a:pt x="3974" y="3693"/>
                </a:cubicBezTo>
                <a:cubicBezTo>
                  <a:pt x="3932" y="3685"/>
                  <a:pt x="3896" y="3827"/>
                  <a:pt x="3835" y="3886"/>
                </a:cubicBezTo>
                <a:cubicBezTo>
                  <a:pt x="3773" y="3944"/>
                  <a:pt x="3689" y="3995"/>
                  <a:pt x="3605" y="4047"/>
                </a:cubicBezTo>
                <a:cubicBezTo>
                  <a:pt x="3520" y="4098"/>
                  <a:pt x="3406" y="4167"/>
                  <a:pt x="3328" y="4193"/>
                </a:cubicBezTo>
                <a:cubicBezTo>
                  <a:pt x="3249" y="4218"/>
                  <a:pt x="3206" y="4216"/>
                  <a:pt x="3134" y="4202"/>
                </a:cubicBezTo>
                <a:cubicBezTo>
                  <a:pt x="3061" y="4187"/>
                  <a:pt x="2966" y="4138"/>
                  <a:pt x="2894" y="4106"/>
                </a:cubicBezTo>
                <a:cubicBezTo>
                  <a:pt x="2821" y="4073"/>
                  <a:pt x="2757" y="4029"/>
                  <a:pt x="2702" y="4010"/>
                </a:cubicBezTo>
                <a:cubicBezTo>
                  <a:pt x="2646" y="3990"/>
                  <a:pt x="2610" y="3973"/>
                  <a:pt x="2558" y="3986"/>
                </a:cubicBezTo>
                <a:cubicBezTo>
                  <a:pt x="2505" y="3998"/>
                  <a:pt x="2463" y="4066"/>
                  <a:pt x="2389" y="4086"/>
                </a:cubicBezTo>
                <a:cubicBezTo>
                  <a:pt x="2314" y="4105"/>
                  <a:pt x="2187" y="4121"/>
                  <a:pt x="2112" y="4101"/>
                </a:cubicBezTo>
                <a:cubicBezTo>
                  <a:pt x="2036" y="4080"/>
                  <a:pt x="2008" y="3990"/>
                  <a:pt x="1934" y="3962"/>
                </a:cubicBezTo>
                <a:cubicBezTo>
                  <a:pt x="1859" y="3933"/>
                  <a:pt x="1738" y="3924"/>
                  <a:pt x="1666" y="3932"/>
                </a:cubicBezTo>
                <a:cubicBezTo>
                  <a:pt x="1594" y="3940"/>
                  <a:pt x="1553" y="3973"/>
                  <a:pt x="1502" y="4010"/>
                </a:cubicBezTo>
                <a:cubicBezTo>
                  <a:pt x="1450" y="4046"/>
                  <a:pt x="1413" y="4114"/>
                  <a:pt x="1358" y="4154"/>
                </a:cubicBezTo>
                <a:cubicBezTo>
                  <a:pt x="1302" y="4193"/>
                  <a:pt x="1238" y="4234"/>
                  <a:pt x="1166" y="4250"/>
                </a:cubicBezTo>
                <a:cubicBezTo>
                  <a:pt x="1094" y="4266"/>
                  <a:pt x="1015" y="4267"/>
                  <a:pt x="926" y="4250"/>
                </a:cubicBezTo>
                <a:cubicBezTo>
                  <a:pt x="836" y="4232"/>
                  <a:pt x="707" y="4177"/>
                  <a:pt x="628" y="4147"/>
                </a:cubicBezTo>
                <a:cubicBezTo>
                  <a:pt x="548" y="4116"/>
                  <a:pt x="508" y="4113"/>
                  <a:pt x="451" y="4070"/>
                </a:cubicBezTo>
                <a:cubicBezTo>
                  <a:pt x="393" y="4026"/>
                  <a:pt x="313" y="3975"/>
                  <a:pt x="281" y="3886"/>
                </a:cubicBezTo>
                <a:cubicBezTo>
                  <a:pt x="248" y="3796"/>
                  <a:pt x="282" y="3605"/>
                  <a:pt x="254" y="3530"/>
                </a:cubicBezTo>
                <a:cubicBezTo>
                  <a:pt x="225" y="3454"/>
                  <a:pt x="150" y="3482"/>
                  <a:pt x="110" y="3434"/>
                </a:cubicBezTo>
                <a:cubicBezTo>
                  <a:pt x="70" y="3386"/>
                  <a:pt x="25" y="3306"/>
                  <a:pt x="14" y="3242"/>
                </a:cubicBezTo>
                <a:cubicBezTo>
                  <a:pt x="2" y="3177"/>
                  <a:pt x="17" y="3111"/>
                  <a:pt x="43" y="3047"/>
                </a:cubicBezTo>
                <a:cubicBezTo>
                  <a:pt x="68" y="2982"/>
                  <a:pt x="106" y="2910"/>
                  <a:pt x="166" y="2855"/>
                </a:cubicBezTo>
                <a:cubicBezTo>
                  <a:pt x="225" y="2799"/>
                  <a:pt x="335" y="2753"/>
                  <a:pt x="398" y="2714"/>
                </a:cubicBezTo>
                <a:cubicBezTo>
                  <a:pt x="460" y="2674"/>
                  <a:pt x="510" y="2658"/>
                  <a:pt x="542" y="2618"/>
                </a:cubicBezTo>
                <a:cubicBezTo>
                  <a:pt x="574" y="2578"/>
                  <a:pt x="610" y="2528"/>
                  <a:pt x="590" y="2474"/>
                </a:cubicBezTo>
                <a:cubicBezTo>
                  <a:pt x="569" y="2419"/>
                  <a:pt x="492" y="2333"/>
                  <a:pt x="420" y="2293"/>
                </a:cubicBezTo>
                <a:cubicBezTo>
                  <a:pt x="347" y="2252"/>
                  <a:pt x="223" y="2256"/>
                  <a:pt x="158" y="2234"/>
                </a:cubicBezTo>
                <a:cubicBezTo>
                  <a:pt x="92" y="2211"/>
                  <a:pt x="51" y="2194"/>
                  <a:pt x="28" y="2155"/>
                </a:cubicBezTo>
                <a:cubicBezTo>
                  <a:pt x="4" y="2115"/>
                  <a:pt x="0" y="2044"/>
                  <a:pt x="14" y="1994"/>
                </a:cubicBezTo>
                <a:cubicBezTo>
                  <a:pt x="27" y="1943"/>
                  <a:pt x="62" y="1898"/>
                  <a:pt x="110" y="1850"/>
                </a:cubicBezTo>
                <a:cubicBezTo>
                  <a:pt x="158" y="1802"/>
                  <a:pt x="269" y="1754"/>
                  <a:pt x="302" y="1706"/>
                </a:cubicBezTo>
                <a:cubicBezTo>
                  <a:pt x="334" y="1657"/>
                  <a:pt x="301" y="1600"/>
                  <a:pt x="302" y="1562"/>
                </a:cubicBezTo>
                <a:cubicBezTo>
                  <a:pt x="302" y="1524"/>
                  <a:pt x="287" y="1512"/>
                  <a:pt x="304" y="1478"/>
                </a:cubicBezTo>
                <a:cubicBezTo>
                  <a:pt x="320" y="1443"/>
                  <a:pt x="396" y="1396"/>
                  <a:pt x="404" y="1355"/>
                </a:cubicBezTo>
                <a:cubicBezTo>
                  <a:pt x="411" y="1314"/>
                  <a:pt x="384" y="1277"/>
                  <a:pt x="351" y="1232"/>
                </a:cubicBezTo>
                <a:cubicBezTo>
                  <a:pt x="318" y="1186"/>
                  <a:pt x="254" y="1134"/>
                  <a:pt x="206" y="1082"/>
                </a:cubicBezTo>
                <a:cubicBezTo>
                  <a:pt x="157" y="1029"/>
                  <a:pt x="89" y="979"/>
                  <a:pt x="58" y="916"/>
                </a:cubicBezTo>
                <a:cubicBezTo>
                  <a:pt x="26" y="852"/>
                  <a:pt x="13" y="774"/>
                  <a:pt x="14" y="698"/>
                </a:cubicBezTo>
                <a:cubicBezTo>
                  <a:pt x="14" y="621"/>
                  <a:pt x="38" y="529"/>
                  <a:pt x="62" y="458"/>
                </a:cubicBezTo>
                <a:cubicBezTo>
                  <a:pt x="85" y="386"/>
                  <a:pt x="118" y="321"/>
                  <a:pt x="158" y="266"/>
                </a:cubicBezTo>
                <a:cubicBezTo>
                  <a:pt x="197" y="210"/>
                  <a:pt x="237" y="155"/>
                  <a:pt x="302" y="122"/>
                </a:cubicBezTo>
                <a:cubicBezTo>
                  <a:pt x="366" y="88"/>
                  <a:pt x="455" y="71"/>
                  <a:pt x="543" y="63"/>
                </a:cubicBezTo>
                <a:cubicBezTo>
                  <a:pt x="631" y="55"/>
                  <a:pt x="750" y="48"/>
                  <a:pt x="830" y="74"/>
                </a:cubicBezTo>
                <a:cubicBezTo>
                  <a:pt x="909" y="99"/>
                  <a:pt x="974" y="162"/>
                  <a:pt x="1022" y="218"/>
                </a:cubicBezTo>
                <a:cubicBezTo>
                  <a:pt x="1070" y="274"/>
                  <a:pt x="1078" y="374"/>
                  <a:pt x="1118" y="410"/>
                </a:cubicBezTo>
                <a:cubicBezTo>
                  <a:pt x="1157" y="445"/>
                  <a:pt x="1211" y="443"/>
                  <a:pt x="1258" y="432"/>
                </a:cubicBezTo>
                <a:cubicBezTo>
                  <a:pt x="1304" y="420"/>
                  <a:pt x="1350" y="376"/>
                  <a:pt x="1397" y="340"/>
                </a:cubicBezTo>
                <a:cubicBezTo>
                  <a:pt x="1443" y="304"/>
                  <a:pt x="1479" y="223"/>
                  <a:pt x="1535" y="216"/>
                </a:cubicBezTo>
                <a:cubicBezTo>
                  <a:pt x="1590" y="208"/>
                  <a:pt x="1672" y="281"/>
                  <a:pt x="1728" y="293"/>
                </a:cubicBezTo>
                <a:cubicBezTo>
                  <a:pt x="1783" y="304"/>
                  <a:pt x="1813" y="314"/>
                  <a:pt x="1866" y="286"/>
                </a:cubicBezTo>
                <a:cubicBezTo>
                  <a:pt x="1918" y="257"/>
                  <a:pt x="1971" y="162"/>
                  <a:pt x="2043" y="124"/>
                </a:cubicBezTo>
                <a:cubicBezTo>
                  <a:pt x="2114" y="85"/>
                  <a:pt x="2243" y="63"/>
                  <a:pt x="2297" y="55"/>
                </a:cubicBezTo>
                <a:close/>
              </a:path>
            </a:pathLst>
          </a:custGeom>
          <a:solidFill>
            <a:srgbClr val="ffea18"/>
          </a:solidFill>
          <a:ln w="19080">
            <a:solidFill>
              <a:srgbClr val="3d383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800" y="1028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dt" idx="3"/>
          </p:nvPr>
        </p:nvSpPr>
        <p:spPr>
          <a:xfrm>
            <a:off x="685800" y="57834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24080" y="57834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553080" y="57834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9A4FA-5CE4-4041-B45D-2A13FB1AD9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hapter 10</a:t>
            </a:r>
            <a:br>
              <a:rPr sz="3200"/>
            </a:br>
            <a:r>
              <a:rPr b="0" lang="en-US" sz="4400" spc="-1" strike="noStrike">
                <a:solidFill>
                  <a:srgbClr val="000000"/>
                </a:solidFill>
                <a:latin typeface="Arial Black"/>
              </a:rPr>
              <a:t>Blood</a:t>
            </a:r>
            <a:endParaRPr b="0" lang="en-US" sz="4400" spc="-1" strike="noStrike">
              <a:solidFill>
                <a:srgbClr val="000000"/>
              </a:solidFill>
              <a:latin typeface="Times New Roman"/>
            </a:endParaRPr>
          </a:p>
        </p:txBody>
      </p:sp>
      <p:sp>
        <p:nvSpPr>
          <p:cNvPr id="85" name=""/>
          <p:cNvSpPr/>
          <p:nvPr/>
        </p:nvSpPr>
        <p:spPr>
          <a:xfrm>
            <a:off x="1371600" y="2987640"/>
            <a:ext cx="65530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ut damned spot! Out, I sa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re’s the smell of the blood stil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perfumes of Arabia will no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eeten this little hand.  Oh, Oh, O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00"/>
                </a:solidFill>
                <a:latin typeface="Arial"/>
              </a:rPr>
              <a:t>William Shakespeare’s Lady Macbeth, in Macbet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761760"/>
            <a:ext cx="85341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uman vs Animal Blood</a:t>
            </a:r>
            <a:endParaRPr b="0" lang="en-US" sz="4400" spc="-1" strike="noStrike">
              <a:solidFill>
                <a:srgbClr val="000000"/>
              </a:solidFill>
              <a:latin typeface="Times New Roman"/>
            </a:endParaRPr>
          </a:p>
        </p:txBody>
      </p:sp>
      <p:sp>
        <p:nvSpPr>
          <p:cNvPr id="111" name="PlaceHolder 2"/>
          <p:cNvSpPr>
            <a:spLocks noGrp="1"/>
          </p:cNvSpPr>
          <p:nvPr>
            <p:ph/>
          </p:nvPr>
        </p:nvSpPr>
        <p:spPr>
          <a:xfrm>
            <a:off x="990720" y="2133360"/>
            <a:ext cx="7162560" cy="3809880"/>
          </a:xfrm>
          <a:prstGeom prst="rect">
            <a:avLst/>
          </a:prstGeom>
          <a:noFill/>
          <a:ln w="0">
            <a:noFill/>
          </a:ln>
        </p:spPr>
        <p:txBody>
          <a:bodyPr lIns="92160" rIns="92160" tIns="46080" bIns="46080" anchor="t">
            <a:normAutofit/>
          </a:bodyPr>
          <a:p>
            <a:pPr marL="343080" indent="-343080">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scopic observation</a:t>
            </a:r>
            <a:endParaRPr b="0" lang="en-US" sz="2400" spc="-1" strike="noStrike">
              <a:solidFill>
                <a:srgbClr val="000000"/>
              </a:solidFill>
              <a:latin typeface="Times New Roman"/>
            </a:endParaRPr>
          </a:p>
          <a:p>
            <a:pPr marL="343080" indent="-343080">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cipitin test</a:t>
            </a:r>
            <a:r>
              <a:rPr b="0" lang="en-US" sz="2400" spc="-1" strike="noStrike">
                <a:solidFill>
                  <a:srgbClr val="000000"/>
                </a:solidFill>
                <a:latin typeface="Arial"/>
                <a:ea typeface="Arial"/>
              </a:rPr>
              <a:t>—</a:t>
            </a:r>
            <a:r>
              <a:rPr b="0" lang="en-US" sz="2400" spc="-1" strike="noStrike">
                <a:solidFill>
                  <a:srgbClr val="000000"/>
                </a:solidFill>
                <a:latin typeface="Arial"/>
              </a:rPr>
              <a:t>blood is injected into a rabbit; antibodies are formed; the rabbit’s blood is extracted as an antiserum; the antiserum is placed on sample blood. The sample will react with human proteins if human blood is present. This test is very sensitive and requires only a small amount of bloo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ADDC8ADB-3C84-4857-AFA8-C630D01FC7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Animal Blood</a:t>
            </a:r>
            <a:endParaRPr b="0" lang="en-US" sz="4400" spc="-1" strike="noStrike">
              <a:solidFill>
                <a:srgbClr val="000000"/>
              </a:solidFill>
              <a:latin typeface="Times New Roman"/>
            </a:endParaRPr>
          </a:p>
        </p:txBody>
      </p:sp>
      <p:sp>
        <p:nvSpPr>
          <p:cNvPr id="113" name="PlaceHolder 2"/>
          <p:cNvSpPr>
            <a:spLocks noGrp="1"/>
          </p:cNvSpPr>
          <p:nvPr>
            <p:ph/>
          </p:nvPr>
        </p:nvSpPr>
        <p:spPr>
          <a:xfrm>
            <a:off x="5029200" y="3124080"/>
            <a:ext cx="4114800" cy="106704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rger nucleic red blood cell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4" name="" descr=""/>
          <p:cNvPicPr/>
          <p:nvPr/>
        </p:nvPicPr>
        <p:blipFill>
          <a:blip r:embed="rId1"/>
          <a:stretch/>
        </p:blipFill>
        <p:spPr>
          <a:xfrm rot="5400">
            <a:off x="1143000" y="2209320"/>
            <a:ext cx="4064040" cy="2710080"/>
          </a:xfrm>
          <a:prstGeom prst="rect">
            <a:avLst/>
          </a:prstGeom>
          <a:ln w="0">
            <a:noFill/>
          </a:ln>
        </p:spPr>
      </p:pic>
      <p:sp>
        <p:nvSpPr>
          <p:cNvPr id="115" name=""/>
          <p:cNvSpPr/>
          <p:nvPr/>
        </p:nvSpPr>
        <p:spPr>
          <a:xfrm>
            <a:off x="1143000" y="5029200"/>
            <a:ext cx="4038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g Blood</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5E9E673B-1037-4D2E-A63E-123EADE0E2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uman Blood</a:t>
            </a:r>
            <a:endParaRPr b="0" lang="en-US" sz="4400" spc="-1" strike="noStrike">
              <a:solidFill>
                <a:srgbClr val="000000"/>
              </a:solidFill>
              <a:latin typeface="Times New Roman"/>
            </a:endParaRPr>
          </a:p>
        </p:txBody>
      </p:sp>
      <p:sp>
        <p:nvSpPr>
          <p:cNvPr id="117" name="PlaceHolder 2"/>
          <p:cNvSpPr>
            <a:spLocks noGrp="1"/>
          </p:cNvSpPr>
          <p:nvPr>
            <p:ph/>
          </p:nvPr>
        </p:nvSpPr>
        <p:spPr>
          <a:xfrm>
            <a:off x="914040" y="1905120"/>
            <a:ext cx="3809880" cy="4114800"/>
          </a:xfrm>
          <a:prstGeom prst="rect">
            <a:avLst/>
          </a:prstGeom>
          <a:noFill/>
          <a:ln w="0">
            <a:noFill/>
          </a:ln>
        </p:spPr>
        <p:txBody>
          <a:bodyPr lIns="92160" rIns="92160" tIns="46080" bIns="46080" anchor="t">
            <a:normAutofit/>
          </a:bodyPr>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 blood cells are most numerous; 5 to 6 million per mm</a:t>
            </a:r>
            <a:r>
              <a:rPr b="0" lang="en-US" sz="2200" spc="-1" strike="noStrike" baseline="30000">
                <a:solidFill>
                  <a:srgbClr val="000000"/>
                </a:solidFill>
                <a:latin typeface="Arial"/>
              </a:rPr>
              <a:t>3</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te blood cells are larger and less numerous; 5 to 10,000 per mm</a:t>
            </a:r>
            <a:r>
              <a:rPr b="0" lang="en-US" sz="2200" spc="-1" strike="noStrike" baseline="30000">
                <a:solidFill>
                  <a:srgbClr val="000000"/>
                </a:solidFill>
                <a:latin typeface="Arial"/>
              </a:rPr>
              <a:t>3</a:t>
            </a:r>
            <a:endParaRPr b="0" lang="en-US" sz="2200" spc="-1" strike="noStrike">
              <a:solidFill>
                <a:srgbClr val="000000"/>
              </a:solidFill>
              <a:latin typeface="Times New Roman"/>
            </a:endParaRPr>
          </a:p>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elets are tiny, cellular fragments; 350 to 500,00 per mm</a:t>
            </a:r>
            <a:r>
              <a:rPr b="0" lang="en-US" sz="2200" spc="-1" strike="noStrike" baseline="30000">
                <a:solidFill>
                  <a:srgbClr val="000000"/>
                </a:solidFill>
                <a:latin typeface="Arial"/>
              </a:rPr>
              <a:t>3</a:t>
            </a:r>
            <a:endParaRPr b="0" lang="en-US" sz="2200" spc="-1" strike="noStrike">
              <a:solidFill>
                <a:srgbClr val="000000"/>
              </a:solidFill>
              <a:latin typeface="Times New Roman"/>
            </a:endParaRPr>
          </a:p>
        </p:txBody>
      </p:sp>
      <p:grpSp>
        <p:nvGrpSpPr>
          <p:cNvPr id="118" name=""/>
          <p:cNvGrpSpPr/>
          <p:nvPr/>
        </p:nvGrpSpPr>
        <p:grpSpPr>
          <a:xfrm>
            <a:off x="4714200" y="1969560"/>
            <a:ext cx="3449160" cy="2973240"/>
            <a:chOff x="4714200" y="1969560"/>
            <a:chExt cx="3449160" cy="2973240"/>
          </a:xfrm>
        </p:grpSpPr>
        <p:pic>
          <p:nvPicPr>
            <p:cNvPr id="119" name="" descr=""/>
            <p:cNvPicPr/>
            <p:nvPr/>
          </p:nvPicPr>
          <p:blipFill>
            <a:blip r:embed="rId1"/>
            <a:stretch/>
          </p:blipFill>
          <p:spPr>
            <a:xfrm rot="21576600">
              <a:off x="4723920" y="1981080"/>
              <a:ext cx="3429000" cy="2949840"/>
            </a:xfrm>
            <a:prstGeom prst="rect">
              <a:avLst/>
            </a:prstGeom>
            <a:ln w="0">
              <a:noFill/>
            </a:ln>
          </p:spPr>
        </p:pic>
        <p:sp>
          <p:nvSpPr>
            <p:cNvPr id="120" name=""/>
            <p:cNvSpPr txBox="1"/>
            <p:nvPr/>
          </p:nvSpPr>
          <p:spPr>
            <a:xfrm rot="21576600">
              <a:off x="4723920" y="1981080"/>
              <a:ext cx="3429000" cy="294984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B03D5CE6-0A5C-45ED-89D5-085A4189F4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lood Typing</a:t>
            </a:r>
            <a:endParaRPr b="0" lang="en-US" sz="4400" spc="-1" strike="noStrike">
              <a:solidFill>
                <a:srgbClr val="000000"/>
              </a:solidFill>
              <a:latin typeface="Times New Roman"/>
            </a:endParaRPr>
          </a:p>
        </p:txBody>
      </p:sp>
      <p:sp>
        <p:nvSpPr>
          <p:cNvPr id="122" name="PlaceHolder 2"/>
          <p:cNvSpPr>
            <a:spLocks noGrp="1"/>
          </p:cNvSpPr>
          <p:nvPr>
            <p:ph/>
          </p:nvPr>
        </p:nvSpPr>
        <p:spPr>
          <a:xfrm>
            <a:off x="1143000" y="1905120"/>
            <a:ext cx="6934320" cy="3047760"/>
          </a:xfrm>
          <a:prstGeom prst="rect">
            <a:avLst/>
          </a:prstGeom>
          <a:noFill/>
          <a:ln w="0">
            <a:noFill/>
          </a:ln>
        </p:spPr>
        <p:txBody>
          <a:bodyPr lIns="90000" rIns="90000" tIns="46800" bIns="46800" anchor="t">
            <a:normAutofit fontScale="83000"/>
          </a:bodyPr>
          <a:p>
            <a:pPr marL="284400" indent="-2844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type A has antigen A on the surface of the cell and will agglutinate with blood type B.</a:t>
            </a:r>
            <a:endParaRPr b="0" lang="en-US" sz="2400" spc="-1" strike="noStrike">
              <a:solidFill>
                <a:srgbClr val="000000"/>
              </a:solidFill>
              <a:latin typeface="Times New Roman"/>
            </a:endParaRPr>
          </a:p>
          <a:p>
            <a:pPr marL="284400" indent="-2844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type B has antigen B on the surface of the cell and will agglutinate with blood type A.</a:t>
            </a:r>
            <a:endParaRPr b="0" lang="en-US" sz="2400" spc="-1" strike="noStrike">
              <a:solidFill>
                <a:srgbClr val="000000"/>
              </a:solidFill>
              <a:latin typeface="Times New Roman"/>
            </a:endParaRPr>
          </a:p>
          <a:p>
            <a:pPr marL="284400" indent="-2844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type AB  has antigens A and B on the surface of the cells and will not agglutinate with either type A or B blood.</a:t>
            </a:r>
            <a:endParaRPr b="0" lang="en-US" sz="2400" spc="-1" strike="noStrike">
              <a:solidFill>
                <a:srgbClr val="000000"/>
              </a:solidFill>
              <a:latin typeface="Times New Roman"/>
            </a:endParaRPr>
          </a:p>
          <a:p>
            <a:pPr marL="284400" indent="-28440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type O has neither antigen A or B and will not agglutinat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0763C7B7-BB23-4AF0-848C-6968635E13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lood Groups</a:t>
            </a:r>
            <a:endParaRPr b="0" lang="en-US" sz="4400" spc="-1" strike="noStrike">
              <a:solidFill>
                <a:srgbClr val="000000"/>
              </a:solidFill>
              <a:latin typeface="Times New Roman"/>
            </a:endParaRPr>
          </a:p>
        </p:txBody>
      </p:sp>
      <p:sp>
        <p:nvSpPr>
          <p:cNvPr id="124" name=""/>
          <p:cNvSpPr/>
          <p:nvPr/>
        </p:nvSpPr>
        <p:spPr>
          <a:xfrm>
            <a:off x="457200" y="1828800"/>
            <a:ext cx="8305920" cy="4267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57200" y="2666880"/>
            <a:ext cx="830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57200" y="3505320"/>
            <a:ext cx="830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57200" y="4343400"/>
            <a:ext cx="830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57200" y="5257800"/>
            <a:ext cx="830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981080" y="182880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733920" y="182880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410080" y="182880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086600" y="182880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92720" y="197964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a:t>
            </a:r>
            <a:endParaRPr b="0" lang="en-US" sz="2400" spc="-1" strike="noStrike">
              <a:solidFill>
                <a:srgbClr val="000000"/>
              </a:solidFill>
              <a:latin typeface="Times New Roman"/>
            </a:endParaRPr>
          </a:p>
        </p:txBody>
      </p:sp>
      <p:sp>
        <p:nvSpPr>
          <p:cNvPr id="134" name=""/>
          <p:cNvSpPr/>
          <p:nvPr/>
        </p:nvSpPr>
        <p:spPr>
          <a:xfrm>
            <a:off x="2265120" y="1963800"/>
            <a:ext cx="131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gen</a:t>
            </a:r>
            <a:endParaRPr b="0" lang="en-US" sz="2400" spc="-1" strike="noStrike">
              <a:solidFill>
                <a:srgbClr val="000000"/>
              </a:solidFill>
              <a:latin typeface="Times New Roman"/>
            </a:endParaRPr>
          </a:p>
        </p:txBody>
      </p:sp>
      <p:sp>
        <p:nvSpPr>
          <p:cNvPr id="135" name=""/>
          <p:cNvSpPr/>
          <p:nvPr/>
        </p:nvSpPr>
        <p:spPr>
          <a:xfrm>
            <a:off x="3887640" y="197964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body</a:t>
            </a:r>
            <a:endParaRPr b="0" lang="en-US" sz="2400" spc="-1" strike="noStrike">
              <a:solidFill>
                <a:srgbClr val="000000"/>
              </a:solidFill>
              <a:latin typeface="Times New Roman"/>
            </a:endParaRPr>
          </a:p>
        </p:txBody>
      </p:sp>
      <p:sp>
        <p:nvSpPr>
          <p:cNvPr id="136" name=""/>
          <p:cNvSpPr/>
          <p:nvPr/>
        </p:nvSpPr>
        <p:spPr>
          <a:xfrm>
            <a:off x="5486400" y="1903320"/>
            <a:ext cx="1600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n G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lood To</a:t>
            </a:r>
            <a:endParaRPr b="0" lang="en-US" sz="2200" spc="-1" strike="noStrike">
              <a:solidFill>
                <a:srgbClr val="000000"/>
              </a:solidFill>
              <a:latin typeface="Times New Roman"/>
            </a:endParaRPr>
          </a:p>
        </p:txBody>
      </p:sp>
      <p:sp>
        <p:nvSpPr>
          <p:cNvPr id="137" name=""/>
          <p:cNvSpPr/>
          <p:nvPr/>
        </p:nvSpPr>
        <p:spPr>
          <a:xfrm>
            <a:off x="7086600" y="1905120"/>
            <a:ext cx="182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n Ge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lood From</a:t>
            </a:r>
            <a:endParaRPr b="0" lang="en-US" sz="2200" spc="-1" strike="noStrike">
              <a:solidFill>
                <a:srgbClr val="000000"/>
              </a:solidFill>
              <a:latin typeface="Times New Roman"/>
            </a:endParaRPr>
          </a:p>
        </p:txBody>
      </p:sp>
      <p:sp>
        <p:nvSpPr>
          <p:cNvPr id="138" name=""/>
          <p:cNvSpPr/>
          <p:nvPr/>
        </p:nvSpPr>
        <p:spPr>
          <a:xfrm>
            <a:off x="977040" y="28195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39" name=""/>
          <p:cNvSpPr/>
          <p:nvPr/>
        </p:nvSpPr>
        <p:spPr>
          <a:xfrm>
            <a:off x="992520" y="3733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0" name=""/>
          <p:cNvSpPr/>
          <p:nvPr/>
        </p:nvSpPr>
        <p:spPr>
          <a:xfrm>
            <a:off x="901080" y="455616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a:t>
            </a:r>
            <a:endParaRPr b="0" lang="en-US" sz="2400" spc="-1" strike="noStrike">
              <a:solidFill>
                <a:srgbClr val="000000"/>
              </a:solidFill>
              <a:latin typeface="Times New Roman"/>
            </a:endParaRPr>
          </a:p>
        </p:txBody>
      </p:sp>
      <p:sp>
        <p:nvSpPr>
          <p:cNvPr id="141" name=""/>
          <p:cNvSpPr/>
          <p:nvPr/>
        </p:nvSpPr>
        <p:spPr>
          <a:xfrm>
            <a:off x="992880" y="54100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42" name=""/>
          <p:cNvSpPr/>
          <p:nvPr/>
        </p:nvSpPr>
        <p:spPr>
          <a:xfrm>
            <a:off x="2669040" y="28195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3" name=""/>
          <p:cNvSpPr/>
          <p:nvPr/>
        </p:nvSpPr>
        <p:spPr>
          <a:xfrm>
            <a:off x="2668680" y="37339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4" name=""/>
          <p:cNvSpPr/>
          <p:nvPr/>
        </p:nvSpPr>
        <p:spPr>
          <a:xfrm>
            <a:off x="2230920" y="457200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nd B</a:t>
            </a:r>
            <a:endParaRPr b="0" lang="en-US" sz="2400" spc="-1" strike="noStrike">
              <a:solidFill>
                <a:srgbClr val="000000"/>
              </a:solidFill>
              <a:latin typeface="Times New Roman"/>
            </a:endParaRPr>
          </a:p>
        </p:txBody>
      </p:sp>
      <p:sp>
        <p:nvSpPr>
          <p:cNvPr id="145" name=""/>
          <p:cNvSpPr/>
          <p:nvPr/>
        </p:nvSpPr>
        <p:spPr>
          <a:xfrm>
            <a:off x="2264400" y="5273640"/>
            <a:ext cx="1162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it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or B</a:t>
            </a:r>
            <a:endParaRPr b="0" lang="en-US" sz="2400" spc="-1" strike="noStrike">
              <a:solidFill>
                <a:srgbClr val="000000"/>
              </a:solidFill>
              <a:latin typeface="Times New Roman"/>
            </a:endParaRPr>
          </a:p>
        </p:txBody>
      </p:sp>
      <p:sp>
        <p:nvSpPr>
          <p:cNvPr id="146" name=""/>
          <p:cNvSpPr/>
          <p:nvPr/>
        </p:nvSpPr>
        <p:spPr>
          <a:xfrm>
            <a:off x="4345200" y="28195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47" name=""/>
          <p:cNvSpPr/>
          <p:nvPr/>
        </p:nvSpPr>
        <p:spPr>
          <a:xfrm>
            <a:off x="4406040" y="37339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8" name=""/>
          <p:cNvSpPr/>
          <p:nvPr/>
        </p:nvSpPr>
        <p:spPr>
          <a:xfrm>
            <a:off x="3964680" y="4419720"/>
            <a:ext cx="1162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it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or B</a:t>
            </a:r>
            <a:endParaRPr b="0" lang="en-US" sz="2400" spc="-1" strike="noStrike">
              <a:solidFill>
                <a:srgbClr val="000000"/>
              </a:solidFill>
              <a:latin typeface="Times New Roman"/>
            </a:endParaRPr>
          </a:p>
        </p:txBody>
      </p:sp>
      <p:sp>
        <p:nvSpPr>
          <p:cNvPr id="149" name=""/>
          <p:cNvSpPr/>
          <p:nvPr/>
        </p:nvSpPr>
        <p:spPr>
          <a:xfrm>
            <a:off x="3964680" y="5410080"/>
            <a:ext cx="11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nd B</a:t>
            </a:r>
            <a:endParaRPr b="0" lang="en-US" sz="2400" spc="-1" strike="noStrike">
              <a:solidFill>
                <a:srgbClr val="000000"/>
              </a:solidFill>
              <a:latin typeface="Times New Roman"/>
            </a:endParaRPr>
          </a:p>
        </p:txBody>
      </p:sp>
      <p:sp>
        <p:nvSpPr>
          <p:cNvPr id="150" name=""/>
          <p:cNvSpPr/>
          <p:nvPr/>
        </p:nvSpPr>
        <p:spPr>
          <a:xfrm>
            <a:off x="5650560" y="2819520"/>
            <a:ext cx="105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AB</a:t>
            </a:r>
            <a:endParaRPr b="0" lang="en-US" sz="2400" spc="-1" strike="noStrike">
              <a:solidFill>
                <a:srgbClr val="000000"/>
              </a:solidFill>
              <a:latin typeface="Times New Roman"/>
            </a:endParaRPr>
          </a:p>
        </p:txBody>
      </p:sp>
      <p:sp>
        <p:nvSpPr>
          <p:cNvPr id="151" name=""/>
          <p:cNvSpPr/>
          <p:nvPr/>
        </p:nvSpPr>
        <p:spPr>
          <a:xfrm>
            <a:off x="7453800" y="2819520"/>
            <a:ext cx="77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 A</a:t>
            </a:r>
            <a:endParaRPr b="0" lang="en-US" sz="2400" spc="-1" strike="noStrike">
              <a:solidFill>
                <a:srgbClr val="000000"/>
              </a:solidFill>
              <a:latin typeface="Times New Roman"/>
            </a:endParaRPr>
          </a:p>
        </p:txBody>
      </p:sp>
      <p:sp>
        <p:nvSpPr>
          <p:cNvPr id="152" name=""/>
          <p:cNvSpPr/>
          <p:nvPr/>
        </p:nvSpPr>
        <p:spPr>
          <a:xfrm>
            <a:off x="5744880" y="365760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B</a:t>
            </a:r>
            <a:endParaRPr b="0" lang="en-US" sz="2400" spc="-1" strike="noStrike">
              <a:solidFill>
                <a:srgbClr val="000000"/>
              </a:solidFill>
              <a:latin typeface="Times New Roman"/>
            </a:endParaRPr>
          </a:p>
        </p:txBody>
      </p:sp>
      <p:sp>
        <p:nvSpPr>
          <p:cNvPr id="153" name=""/>
          <p:cNvSpPr/>
          <p:nvPr/>
        </p:nvSpPr>
        <p:spPr>
          <a:xfrm>
            <a:off x="7471800" y="3657600"/>
            <a:ext cx="83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 , B</a:t>
            </a:r>
            <a:endParaRPr b="0" lang="en-US" sz="2400" spc="-1" strike="noStrike">
              <a:solidFill>
                <a:srgbClr val="000000"/>
              </a:solidFill>
              <a:latin typeface="Times New Roman"/>
            </a:endParaRPr>
          </a:p>
        </p:txBody>
      </p:sp>
      <p:sp>
        <p:nvSpPr>
          <p:cNvPr id="154" name=""/>
          <p:cNvSpPr/>
          <p:nvPr/>
        </p:nvSpPr>
        <p:spPr>
          <a:xfrm>
            <a:off x="5947560" y="457200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a:t>
            </a:r>
            <a:endParaRPr b="0" lang="en-US" sz="2400" spc="-1" strike="noStrike">
              <a:solidFill>
                <a:srgbClr val="000000"/>
              </a:solidFill>
              <a:latin typeface="Times New Roman"/>
            </a:endParaRPr>
          </a:p>
        </p:txBody>
      </p:sp>
      <p:sp>
        <p:nvSpPr>
          <p:cNvPr id="155" name=""/>
          <p:cNvSpPr/>
          <p:nvPr/>
        </p:nvSpPr>
        <p:spPr>
          <a:xfrm>
            <a:off x="5413320" y="5394240"/>
            <a:ext cx="170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 O, AB</a:t>
            </a:r>
            <a:endParaRPr b="0" lang="en-US" sz="2400" spc="-1" strike="noStrike">
              <a:solidFill>
                <a:srgbClr val="000000"/>
              </a:solidFill>
              <a:latin typeface="Times New Roman"/>
            </a:endParaRPr>
          </a:p>
        </p:txBody>
      </p:sp>
      <p:sp>
        <p:nvSpPr>
          <p:cNvPr id="156" name=""/>
          <p:cNvSpPr/>
          <p:nvPr/>
        </p:nvSpPr>
        <p:spPr>
          <a:xfrm>
            <a:off x="7089840" y="4572000"/>
            <a:ext cx="170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 O, AB</a:t>
            </a:r>
            <a:endParaRPr b="0" lang="en-US" sz="2400" spc="-1" strike="noStrike">
              <a:solidFill>
                <a:srgbClr val="000000"/>
              </a:solidFill>
              <a:latin typeface="Times New Roman"/>
            </a:endParaRPr>
          </a:p>
        </p:txBody>
      </p:sp>
      <p:sp>
        <p:nvSpPr>
          <p:cNvPr id="157" name=""/>
          <p:cNvSpPr/>
          <p:nvPr/>
        </p:nvSpPr>
        <p:spPr>
          <a:xfrm>
            <a:off x="7682400" y="54100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Kendall/Hunt Publishing Company</a:t>
            </a:r>
          </a:p>
        </p:txBody>
      </p:sp>
      <p:sp>
        <p:nvSpPr>
          <p:cNvPr id="4" name="PlaceHolder 3"/>
          <p:cNvSpPr>
            <a:spLocks noGrp="1"/>
          </p:cNvSpPr>
          <p:nvPr>
            <p:ph type="sldNum" idx="2"/>
          </p:nvPr>
        </p:nvSpPr>
        <p:spPr/>
        <p:txBody>
          <a:bodyPr/>
          <a:p>
            <a:fld id="{C45132EC-5ACB-40C5-9D0C-D1E0DF63BB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opulation Distribution </a:t>
            </a:r>
            <a:br>
              <a:rPr sz="3600"/>
            </a:br>
            <a:r>
              <a:rPr b="0" lang="en-US" sz="3600" spc="-1" strike="noStrike">
                <a:solidFill>
                  <a:srgbClr val="000000"/>
                </a:solidFill>
                <a:latin typeface="Arial Black"/>
              </a:rPr>
              <a:t>of Blood Types in the U.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9" name=""/>
          <p:cNvSpPr/>
          <p:nvPr/>
        </p:nvSpPr>
        <p:spPr>
          <a:xfrm>
            <a:off x="2362320" y="2014560"/>
            <a:ext cx="4343400" cy="3809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495680" y="1981080"/>
            <a:ext cx="0" cy="38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362320" y="266688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362320" y="350532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362320" y="434340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362320" y="510552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926440" y="211608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a:t>
            </a:r>
            <a:endParaRPr b="0" lang="en-US" sz="2400" spc="-1" strike="noStrike">
              <a:solidFill>
                <a:srgbClr val="000000"/>
              </a:solidFill>
              <a:latin typeface="Times New Roman"/>
            </a:endParaRPr>
          </a:p>
        </p:txBody>
      </p:sp>
      <p:sp>
        <p:nvSpPr>
          <p:cNvPr id="166" name=""/>
          <p:cNvSpPr/>
          <p:nvPr/>
        </p:nvSpPr>
        <p:spPr>
          <a:xfrm>
            <a:off x="5077800" y="21160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cent</a:t>
            </a:r>
            <a:endParaRPr b="0" lang="en-US" sz="2400" spc="-1" strike="noStrike">
              <a:solidFill>
                <a:srgbClr val="000000"/>
              </a:solidFill>
              <a:latin typeface="Times New Roman"/>
            </a:endParaRPr>
          </a:p>
        </p:txBody>
      </p:sp>
      <p:sp>
        <p:nvSpPr>
          <p:cNvPr id="167" name=""/>
          <p:cNvSpPr/>
          <p:nvPr/>
        </p:nvSpPr>
        <p:spPr>
          <a:xfrm>
            <a:off x="3126240" y="28954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68" name=""/>
          <p:cNvSpPr/>
          <p:nvPr/>
        </p:nvSpPr>
        <p:spPr>
          <a:xfrm>
            <a:off x="3186720" y="37180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69" name=""/>
          <p:cNvSpPr/>
          <p:nvPr/>
        </p:nvSpPr>
        <p:spPr>
          <a:xfrm>
            <a:off x="3202200" y="44798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70" name=""/>
          <p:cNvSpPr/>
          <p:nvPr/>
        </p:nvSpPr>
        <p:spPr>
          <a:xfrm>
            <a:off x="3110760" y="5241960"/>
            <a:ext cx="60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a:t>
            </a:r>
            <a:endParaRPr b="0" lang="en-US" sz="2400" spc="-1" strike="noStrike">
              <a:solidFill>
                <a:srgbClr val="000000"/>
              </a:solidFill>
              <a:latin typeface="Times New Roman"/>
            </a:endParaRPr>
          </a:p>
        </p:txBody>
      </p:sp>
      <p:sp>
        <p:nvSpPr>
          <p:cNvPr id="171" name=""/>
          <p:cNvSpPr/>
          <p:nvPr/>
        </p:nvSpPr>
        <p:spPr>
          <a:xfrm>
            <a:off x="5335560" y="28954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p:txBody>
      </p:sp>
      <p:sp>
        <p:nvSpPr>
          <p:cNvPr id="172" name=""/>
          <p:cNvSpPr/>
          <p:nvPr/>
        </p:nvSpPr>
        <p:spPr>
          <a:xfrm>
            <a:off x="5335560" y="37180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73" name=""/>
          <p:cNvSpPr/>
          <p:nvPr/>
        </p:nvSpPr>
        <p:spPr>
          <a:xfrm>
            <a:off x="5335560" y="44798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174" name=""/>
          <p:cNvSpPr/>
          <p:nvPr/>
        </p:nvSpPr>
        <p:spPr>
          <a:xfrm>
            <a:off x="5411880" y="5241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Kendall/Hunt Publishing Company</a:t>
            </a:r>
          </a:p>
        </p:txBody>
      </p:sp>
      <p:sp>
        <p:nvSpPr>
          <p:cNvPr id="4" name="PlaceHolder 3"/>
          <p:cNvSpPr>
            <a:spLocks noGrp="1"/>
          </p:cNvSpPr>
          <p:nvPr>
            <p:ph type="sldNum" idx="2"/>
          </p:nvPr>
        </p:nvSpPr>
        <p:spPr/>
        <p:txBody>
          <a:bodyPr/>
          <a:p>
            <a:fld id="{66FFA6CE-07DD-43C5-8277-3867F9C364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990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lood Pattern Reconstruction</a:t>
            </a:r>
            <a:br>
              <a:rPr sz="4000"/>
            </a:br>
            <a:endParaRPr b="0" lang="en-US" sz="4000" spc="-1" strike="noStrike">
              <a:solidFill>
                <a:srgbClr val="000000"/>
              </a:solidFill>
              <a:latin typeface="Times New Roman"/>
            </a:endParaRPr>
          </a:p>
        </p:txBody>
      </p:sp>
      <p:sp>
        <p:nvSpPr>
          <p:cNvPr id="176" name="PlaceHolder 2"/>
          <p:cNvSpPr>
            <a:spLocks noGrp="1"/>
          </p:cNvSpPr>
          <p:nvPr>
            <p:ph/>
          </p:nvPr>
        </p:nvSpPr>
        <p:spPr>
          <a:xfrm>
            <a:off x="685800" y="1828440"/>
            <a:ext cx="3657600" cy="3809880"/>
          </a:xfrm>
          <a:prstGeom prst="rect">
            <a:avLst/>
          </a:prstGeom>
          <a:noFill/>
          <a:ln w="0">
            <a:noFill/>
          </a:ln>
        </p:spPr>
        <p:txBody>
          <a:bodyPr lIns="90000" rIns="90000" tIns="46800" bIns="46800" anchor="t">
            <a:normAutofit/>
          </a:bodyPr>
          <a:p>
            <a:pPr marL="343080"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cene Pattern Reconstruction</a:t>
            </a:r>
            <a:endParaRPr b="0" lang="en-US" sz="2800" spc="-1" strike="noStrike">
              <a:solidFill>
                <a:srgbClr val="000000"/>
              </a:solidFill>
              <a:latin typeface="Times New Roman"/>
            </a:endParaRPr>
          </a:p>
          <a:p>
            <a:pPr lvl="1" marL="74304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200" spc="-1" strike="noStrike">
                <a:solidFill>
                  <a:srgbClr val="000000"/>
                </a:solidFill>
                <a:latin typeface="Arial"/>
              </a:rPr>
              <a:t>Stain condition</a:t>
            </a:r>
            <a:endParaRPr b="0" lang="en-US" sz="2200" spc="-1" strike="noStrike">
              <a:solidFill>
                <a:srgbClr val="000000"/>
              </a:solidFill>
              <a:latin typeface="Times New Roman"/>
            </a:endParaRPr>
          </a:p>
          <a:p>
            <a:pPr lvl="1" marL="74304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Pattern</a:t>
            </a:r>
            <a:endParaRPr b="0" lang="en-US" sz="2200" spc="-1" strike="noStrike">
              <a:solidFill>
                <a:srgbClr val="000000"/>
              </a:solidFill>
              <a:latin typeface="Times New Roman"/>
            </a:endParaRPr>
          </a:p>
          <a:p>
            <a:pPr lvl="1" marL="74304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Distribution</a:t>
            </a:r>
            <a:endParaRPr b="0" lang="en-US" sz="2200" spc="-1" strike="noStrike">
              <a:solidFill>
                <a:srgbClr val="000000"/>
              </a:solidFill>
              <a:latin typeface="Times New Roman"/>
            </a:endParaRPr>
          </a:p>
          <a:p>
            <a:pPr lvl="1" marL="74304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Location</a:t>
            </a:r>
            <a:endParaRPr b="0" lang="en-US" sz="2200" spc="-1" strike="noStrike">
              <a:solidFill>
                <a:srgbClr val="000000"/>
              </a:solidFill>
              <a:latin typeface="Times New Roman"/>
            </a:endParaRPr>
          </a:p>
          <a:p>
            <a:pPr lvl="1" marL="74304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Directionality</a:t>
            </a:r>
            <a:endParaRPr b="0" lang="en-US" sz="2200" spc="-1" strike="noStrike">
              <a:solidFill>
                <a:srgbClr val="000000"/>
              </a:solidFill>
              <a:latin typeface="Times New Roman"/>
            </a:endParaRPr>
          </a:p>
        </p:txBody>
      </p:sp>
      <p:sp>
        <p:nvSpPr>
          <p:cNvPr id="177" name="PlaceHolder 3"/>
          <p:cNvSpPr>
            <a:spLocks noGrp="1"/>
          </p:cNvSpPr>
          <p:nvPr>
            <p:ph/>
          </p:nvPr>
        </p:nvSpPr>
        <p:spPr>
          <a:xfrm>
            <a:off x="4267080" y="1828440"/>
            <a:ext cx="3810240" cy="3809880"/>
          </a:xfrm>
          <a:prstGeom prst="rect">
            <a:avLst/>
          </a:prstGeom>
          <a:noFill/>
          <a:ln w="0">
            <a:noFill/>
          </a:ln>
        </p:spPr>
        <p:txBody>
          <a:bodyPr lIns="90000" rIns="90000" tIns="46800" bIns="46800" anchor="t">
            <a:normAutofit/>
          </a:bodyPr>
          <a:p>
            <a:pPr marL="343080"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Lab Results Reconstruction</a:t>
            </a:r>
            <a:endParaRPr b="0" lang="en-US" sz="2800" spc="-1" strike="noStrike">
              <a:solidFill>
                <a:srgbClr val="000000"/>
              </a:solidFill>
              <a:latin typeface="Times New Roman"/>
            </a:endParaRPr>
          </a:p>
          <a:p>
            <a:pPr lvl="1" marL="74304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Genetic marker typing</a:t>
            </a:r>
            <a:endParaRPr b="0" lang="en-US" sz="2200" spc="-1" strike="noStrike">
              <a:solidFill>
                <a:srgbClr val="000000"/>
              </a:solidFill>
              <a:latin typeface="Times New Roman"/>
            </a:endParaRPr>
          </a:p>
          <a:p>
            <a:pPr lvl="1" marL="74304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ge Determination</a:t>
            </a:r>
            <a:endParaRPr b="0" lang="en-US" sz="2200" spc="-1" strike="noStrike">
              <a:solidFill>
                <a:srgbClr val="000000"/>
              </a:solidFill>
              <a:latin typeface="Times New Roman"/>
            </a:endParaRPr>
          </a:p>
          <a:p>
            <a:pPr lvl="1" marL="74304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Source Determination</a:t>
            </a:r>
            <a:endParaRPr b="0" lang="en-US" sz="2200" spc="-1" strike="noStrike">
              <a:solidFill>
                <a:srgbClr val="000000"/>
              </a:solidFill>
              <a:latin typeface="Times New Roman"/>
            </a:endParaRPr>
          </a:p>
          <a:p>
            <a:pPr lvl="1" marL="74304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Race Determination</a:t>
            </a:r>
            <a:endParaRPr b="0" lang="en-US" sz="2200" spc="-1" strike="noStrike">
              <a:solidFill>
                <a:srgbClr val="000000"/>
              </a:solidFill>
              <a:latin typeface="Times New Roman"/>
            </a:endParaRPr>
          </a:p>
          <a:p>
            <a:pPr lvl="1" marL="74304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Sex Determination</a:t>
            </a:r>
            <a:endParaRPr b="0" lang="en-US" sz="2200" spc="-1" strike="noStrike">
              <a:solidFill>
                <a:srgbClr val="000000"/>
              </a:solidFill>
              <a:latin typeface="Times New Roman"/>
            </a:endParaRPr>
          </a:p>
        </p:txBody>
      </p:sp>
      <p:sp>
        <p:nvSpPr>
          <p:cNvPr id="178" name=""/>
          <p:cNvSpPr/>
          <p:nvPr/>
        </p:nvSpPr>
        <p:spPr>
          <a:xfrm>
            <a:off x="3733920" y="5181480"/>
            <a:ext cx="4800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r>
              <a:rPr b="0" lang="en-US" sz="1600" spc="-1" strike="noStrike">
                <a:solidFill>
                  <a:srgbClr val="000000"/>
                </a:solidFill>
                <a:latin typeface="Arial"/>
              </a:rPr>
              <a:t>From “Cracking Cases” by Dr. Henry C. Lee</a:t>
            </a:r>
            <a:endParaRPr b="0" lang="en-US" sz="1600" spc="-1" strike="noStrike">
              <a:solidFill>
                <a:srgbClr val="000000"/>
              </a:solidFill>
              <a:latin typeface="Times New Roman"/>
            </a:endParaRPr>
          </a:p>
        </p:txBody>
      </p:sp>
      <p:sp>
        <p:nvSpPr>
          <p:cNvPr id="5" name="PlaceHolder 4"/>
          <p:cNvSpPr>
            <a:spLocks noGrp="1"/>
          </p:cNvSpPr>
          <p:nvPr>
            <p:ph type="ftr" idx="1"/>
          </p:nvPr>
        </p:nvSpPr>
        <p:spPr/>
        <p:txBody>
          <a:bodyPr/>
          <a:p>
            <a:r>
              <a:t>Kendall/Hunt Publishing Company</a:t>
            </a:r>
          </a:p>
        </p:txBody>
      </p:sp>
      <p:sp>
        <p:nvSpPr>
          <p:cNvPr id="6" name="PlaceHolder 5"/>
          <p:cNvSpPr>
            <a:spLocks noGrp="1"/>
          </p:cNvSpPr>
          <p:nvPr>
            <p:ph type="sldNum" idx="2"/>
          </p:nvPr>
        </p:nvSpPr>
        <p:spPr/>
        <p:txBody>
          <a:bodyPr/>
          <a:p>
            <a:fld id="{21F11173-2118-46B9-904B-D9B0A48251F8}"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03"/>
                </a:solidFill>
                <a:latin typeface="Arial Black"/>
              </a:rPr>
              <a:t>Blood</a:t>
            </a:r>
            <a:r>
              <a:rPr b="0" lang="en-US" sz="4400" spc="-1" strike="noStrike">
                <a:solidFill>
                  <a:srgbClr val="000000"/>
                </a:solidFill>
                <a:latin typeface="Arial Black"/>
              </a:rPr>
              <a:t> </a:t>
            </a:r>
            <a:endParaRPr b="0" lang="en-US" sz="4400" spc="-1" strike="noStrike">
              <a:solidFill>
                <a:srgbClr val="000000"/>
              </a:solidFill>
              <a:latin typeface="Times New Roman"/>
            </a:endParaRPr>
          </a:p>
        </p:txBody>
      </p:sp>
      <p:sp>
        <p:nvSpPr>
          <p:cNvPr id="87" name="PlaceHolder 2"/>
          <p:cNvSpPr>
            <a:spLocks noGrp="1"/>
          </p:cNvSpPr>
          <p:nvPr>
            <p:ph/>
          </p:nvPr>
        </p:nvSpPr>
        <p:spPr>
          <a:xfrm>
            <a:off x="4647960" y="190512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0d17"/>
                </a:solidFill>
                <a:latin typeface="Arial"/>
              </a:rPr>
              <a:t>That an antibody and an antigen of different types will  agglutinate, or clump, when mixed together. </a:t>
            </a:r>
            <a:endParaRPr b="0" lang="en-US" sz="24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0d17"/>
                </a:solidFill>
                <a:latin typeface="Arial"/>
              </a:rPr>
              <a:t>That the significance of the evidence depends on a characteristic’s  relative occurrence in the population.</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685800" y="2292480"/>
            <a:ext cx="3809880" cy="3035160"/>
          </a:xfrm>
          <a:prstGeom prst="rect">
            <a:avLst/>
          </a:prstGeom>
          <a:ln w="0">
            <a:noFill/>
          </a:ln>
        </p:spPr>
      </p:pic>
      <p:sp>
        <p:nvSpPr>
          <p:cNvPr id="89" name=""/>
          <p:cNvSpPr/>
          <p:nvPr/>
        </p:nvSpPr>
        <p:spPr>
          <a:xfrm>
            <a:off x="1219320" y="1600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80b10"/>
                </a:solidFill>
                <a:latin typeface="Arial"/>
              </a:rPr>
              <a:t>Students will learn:</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37A8AEFF-E3EB-4263-A6DF-24D2C4F77C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103"/>
                </a:solidFill>
                <a:latin typeface="Arial Black"/>
              </a:rPr>
              <a:t>Bloo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4648320" y="1828800"/>
            <a:ext cx="36576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f0d17"/>
                </a:solidFill>
                <a:latin typeface="Arial"/>
              </a:rPr>
              <a:t>Students will be able to:</a:t>
            </a:r>
            <a:endParaRPr b="0" lang="en-US" sz="18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0d17"/>
                </a:solidFill>
                <a:latin typeface="Arial"/>
              </a:rPr>
              <a:t>Determine whether a stain is blood. </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0d17"/>
                </a:solidFill>
                <a:latin typeface="Arial"/>
              </a:rPr>
              <a:t>Determine whether a bloodstain is human or animal blood. </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0d17"/>
                </a:solidFill>
                <a:latin typeface="Arial"/>
              </a:rPr>
              <a:t>Determine the blood type of a simulated bloodstain using the ABO/Rh system. </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0d17"/>
                </a:solidFill>
                <a:latin typeface="Arial"/>
              </a:rPr>
              <a:t>Explore bloodstain patterns as a function of velocity, direction, and height of fall. </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f0d17"/>
                </a:solidFill>
                <a:latin typeface="Arial"/>
              </a:rPr>
              <a:t>Use technology and mathematics to improve investigations  and communications. </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304920" y="1905120"/>
            <a:ext cx="4190760" cy="3504960"/>
          </a:xfrm>
          <a:prstGeom prst="rect">
            <a:avLst/>
          </a:prstGeom>
          <a:ln w="0">
            <a:noFill/>
          </a:ln>
        </p:spPr>
      </p:pic>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E75EE9E7-9C24-4F02-A4C2-313E1E1BF4AA}"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7" dur="500"/>
                                        <p:tgtEl>
                                          <p:spTgt spid="9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1">
                                            <p:txEl>
                                              <p:pRg st="1" end="1"/>
                                            </p:txEl>
                                          </p:spTgt>
                                        </p:tgtEl>
                                        <p:attrNameLst>
                                          <p:attrName>style.visibility</p:attrName>
                                        </p:attrNameLst>
                                      </p:cBhvr>
                                      <p:to>
                                        <p:strVal val="visible"/>
                                      </p:to>
                                    </p:set>
                                    <p:animEffect filter="wipe(left)" transition="in">
                                      <p:cBhvr additive="repl">
                                        <p:cTn id="12" dur="500"/>
                                        <p:tgtEl>
                                          <p:spTgt spid="9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1">
                                            <p:txEl>
                                              <p:pRg st="2" end="2"/>
                                            </p:txEl>
                                          </p:spTgt>
                                        </p:tgtEl>
                                        <p:attrNameLst>
                                          <p:attrName>style.visibility</p:attrName>
                                        </p:attrNameLst>
                                      </p:cBhvr>
                                      <p:to>
                                        <p:strVal val="visible"/>
                                      </p:to>
                                    </p:set>
                                    <p:animEffect filter="wipe(left)" transition="in">
                                      <p:cBhvr additive="repl">
                                        <p:cTn id="17" dur="500"/>
                                        <p:tgtEl>
                                          <p:spTgt spid="9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1">
                                            <p:txEl>
                                              <p:pRg st="3" end="3"/>
                                            </p:txEl>
                                          </p:spTgt>
                                        </p:tgtEl>
                                        <p:attrNameLst>
                                          <p:attrName>style.visibility</p:attrName>
                                        </p:attrNameLst>
                                      </p:cBhvr>
                                      <p:to>
                                        <p:strVal val="visible"/>
                                      </p:to>
                                    </p:set>
                                    <p:animEffect filter="wipe(left)" transition="in">
                                      <p:cBhvr additive="repl">
                                        <p:cTn id="22" dur="500"/>
                                        <p:tgtEl>
                                          <p:spTgt spid="91">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1">
                                            <p:txEl>
                                              <p:pRg st="4" end="4"/>
                                            </p:txEl>
                                          </p:spTgt>
                                        </p:tgtEl>
                                        <p:attrNameLst>
                                          <p:attrName>style.visibility</p:attrName>
                                        </p:attrNameLst>
                                      </p:cBhvr>
                                      <p:to>
                                        <p:strVal val="visible"/>
                                      </p:to>
                                    </p:set>
                                    <p:animEffect filter="wipe(left)" transition="in">
                                      <p:cBhvr additive="repl">
                                        <p:cTn id="27" dur="500"/>
                                        <p:tgtEl>
                                          <p:spTgt spid="91">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1">
                                            <p:txEl>
                                              <p:pRg st="5" end="5"/>
                                            </p:txEl>
                                          </p:spTgt>
                                        </p:tgtEl>
                                        <p:attrNameLst>
                                          <p:attrName>style.visibility</p:attrName>
                                        </p:attrNameLst>
                                      </p:cBhvr>
                                      <p:to>
                                        <p:strVal val="visible"/>
                                      </p:to>
                                    </p:set>
                                    <p:animEffect filter="wipe(left)" transition="in">
                                      <p:cBhvr additive="repl">
                                        <p:cTn id="32" dur="500"/>
                                        <p:tgtEl>
                                          <p:spTgt spid="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erology</a:t>
            </a:r>
            <a:endParaRPr b="0" lang="en-US" sz="4400" spc="-1" strike="noStrike">
              <a:solidFill>
                <a:srgbClr val="000000"/>
              </a:solidFill>
              <a:latin typeface="Times New Roman"/>
            </a:endParaRPr>
          </a:p>
        </p:txBody>
      </p:sp>
      <p:sp>
        <p:nvSpPr>
          <p:cNvPr id="94" name="PlaceHolder 2"/>
          <p:cNvSpPr>
            <a:spLocks noGrp="1"/>
          </p:cNvSpPr>
          <p:nvPr>
            <p:ph/>
          </p:nvPr>
        </p:nvSpPr>
        <p:spPr>
          <a:xfrm>
            <a:off x="838080" y="1904760"/>
            <a:ext cx="7467840" cy="380988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erology is the examination and analysis of body fluids. A forensic serologist may analyze a variety of body fluids including saliva, semen, urine, and blood. From 1950 to the late 1980’s, forensic serology was a most important part of lab procedures. With the development of DNA techniques, more time, money, and significance was placed in developing DNA labs. However, with limited funds and the time required for DNA testing, most labs still use many of the basic serology testing procedures.</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BE3CEB80-82E9-4CC1-BA9B-0620A43A6E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lood Characteristics</a:t>
            </a:r>
            <a:endParaRPr b="0" lang="en-US" sz="4400" spc="-1" strike="noStrike">
              <a:solidFill>
                <a:srgbClr val="000000"/>
              </a:solidFill>
              <a:latin typeface="Times New Roman"/>
            </a:endParaRPr>
          </a:p>
        </p:txBody>
      </p:sp>
      <p:sp>
        <p:nvSpPr>
          <p:cNvPr id="96" name="PlaceHolder 2"/>
          <p:cNvSpPr>
            <a:spLocks noGrp="1"/>
          </p:cNvSpPr>
          <p:nvPr>
            <p:ph/>
          </p:nvPr>
        </p:nvSpPr>
        <p:spPr>
          <a:xfrm>
            <a:off x="4572000" y="1676520"/>
            <a:ext cx="3733920" cy="4038480"/>
          </a:xfrm>
          <a:prstGeom prst="rect">
            <a:avLst/>
          </a:prstGeom>
          <a:noFill/>
          <a:ln w="0">
            <a:noFill/>
          </a:ln>
        </p:spPr>
        <p:txBody>
          <a:bodyPr lIns="90000" rIns="90000" tIns="46800" bIns="46800" anchor="t">
            <a:normAutofit/>
          </a:bodyPr>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sma is the fluid portion of the blood (55%)</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s (45%)</a:t>
            </a:r>
            <a:endParaRPr b="0" lang="en-US" sz="1600" spc="-1" strike="noStrike">
              <a:solidFill>
                <a:srgbClr val="000000"/>
              </a:solidFill>
              <a:latin typeface="Times New Roman"/>
            </a:endParaRPr>
          </a:p>
          <a:p>
            <a:pPr lvl="1" marL="743040" indent="-28584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ythrocytes are red blood cells. They are responsible for oxygen distribution.</a:t>
            </a:r>
            <a:endParaRPr b="0" lang="en-US" sz="1600" spc="-1" strike="noStrike">
              <a:solidFill>
                <a:srgbClr val="000000"/>
              </a:solidFill>
              <a:latin typeface="Times New Roman"/>
            </a:endParaRPr>
          </a:p>
          <a:p>
            <a:pPr lvl="1" marL="743040" indent="-28584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ukocytes are the white blood cells; they are responsible for “cleaning” the system of foreign invaders.</a:t>
            </a:r>
            <a:endParaRPr b="0" lang="en-US" sz="1600" spc="-1" strike="noStrike">
              <a:solidFill>
                <a:srgbClr val="000000"/>
              </a:solidFill>
              <a:latin typeface="Times New Roman"/>
            </a:endParaRPr>
          </a:p>
          <a:p>
            <a:pPr lvl="1" marL="743040" indent="-28584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ombocytes or platelets are responsible for blood clotting</a:t>
            </a:r>
            <a:endParaRPr b="0" lang="en-US" sz="1600" spc="-1" strike="noStrike">
              <a:solidFill>
                <a:srgbClr val="000000"/>
              </a:solidFill>
              <a:latin typeface="Times New Roman"/>
            </a:endParaRPr>
          </a:p>
          <a:p>
            <a:pPr marL="343080" indent="-343080">
              <a:lnSpc>
                <a:spcPct val="100000"/>
              </a:lnSpc>
              <a:spcBef>
                <a:spcPts val="4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um is the liquid that separates from the blood when a clot is formed.</a:t>
            </a:r>
            <a:endParaRPr b="0" lang="en-US" sz="1600" spc="-1" strike="noStrike">
              <a:solidFill>
                <a:srgbClr val="000000"/>
              </a:solidFill>
              <a:latin typeface="Times New Roman"/>
            </a:endParaRPr>
          </a:p>
        </p:txBody>
      </p:sp>
      <p:pic>
        <p:nvPicPr>
          <p:cNvPr id="97" name="" descr=""/>
          <p:cNvPicPr/>
          <p:nvPr/>
        </p:nvPicPr>
        <p:blipFill>
          <a:blip r:embed="rId1"/>
          <a:stretch/>
        </p:blipFill>
        <p:spPr>
          <a:xfrm>
            <a:off x="1143000" y="2130480"/>
            <a:ext cx="3429000" cy="2975040"/>
          </a:xfrm>
          <a:prstGeom prst="rect">
            <a:avLst/>
          </a:prstGeom>
          <a:ln w="0">
            <a:noFill/>
          </a:ln>
        </p:spPr>
      </p:pic>
      <p:sp>
        <p:nvSpPr>
          <p:cNvPr id="98" name=""/>
          <p:cNvSpPr/>
          <p:nvPr/>
        </p:nvSpPr>
        <p:spPr>
          <a:xfrm flipH="1" flipV="1">
            <a:off x="4191120" y="2590560"/>
            <a:ext cx="838080" cy="75960"/>
          </a:xfrm>
          <a:prstGeom prst="line">
            <a:avLst/>
          </a:prstGeom>
          <a:ln w="12600">
            <a:solidFill>
              <a:srgbClr val="000000"/>
            </a:solidFill>
            <a:miter/>
            <a:tailEnd len="sm" type="triangle" w="sm"/>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9" name=""/>
          <p:cNvSpPr/>
          <p:nvPr/>
        </p:nvSpPr>
        <p:spPr>
          <a:xfrm flipH="1" flipV="1">
            <a:off x="3352320" y="3200040"/>
            <a:ext cx="167652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flipV="1">
            <a:off x="3962160" y="4114440"/>
            <a:ext cx="106668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104054BA-A620-4447-9275-F74B84F553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83808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Historical Perspective </a:t>
            </a:r>
            <a:br>
              <a:rPr sz="4400"/>
            </a:br>
            <a:r>
              <a:rPr b="0" lang="en-US" sz="4400" spc="-1" strike="noStrike">
                <a:solidFill>
                  <a:srgbClr val="000000"/>
                </a:solidFill>
                <a:latin typeface="Arial Black"/>
              </a:rPr>
              <a:t>of Blood Typing</a:t>
            </a:r>
            <a:endParaRPr b="0" lang="en-US" sz="4400" spc="-1" strike="noStrike">
              <a:solidFill>
                <a:srgbClr val="000000"/>
              </a:solidFill>
              <a:latin typeface="Times New Roman"/>
            </a:endParaRPr>
          </a:p>
        </p:txBody>
      </p:sp>
      <p:sp>
        <p:nvSpPr>
          <p:cNvPr id="102" name="PlaceHolder 2"/>
          <p:cNvSpPr>
            <a:spLocks noGrp="1"/>
          </p:cNvSpPr>
          <p:nvPr>
            <p:ph/>
          </p:nvPr>
        </p:nvSpPr>
        <p:spPr>
          <a:xfrm>
            <a:off x="685440" y="2437920"/>
            <a:ext cx="7620120" cy="3124440"/>
          </a:xfrm>
          <a:prstGeom prst="rect">
            <a:avLst/>
          </a:prstGeom>
          <a:noFill/>
          <a:ln w="0">
            <a:noFill/>
          </a:ln>
        </p:spPr>
        <p:txBody>
          <a:bodyPr lIns="90000" rIns="90000" tIns="46800" bIns="46800" anchor="t">
            <a:normAutofit/>
          </a:bodyPr>
          <a:p>
            <a:pPr marL="3430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round 1900, Karl Landsteiner discovered that there are four different types of human blood based on the presence or absence of specific antigens found on the surface of the red blood cells.  </a:t>
            </a:r>
            <a:endParaRPr b="0" lang="en-US" sz="2200" spc="-1" strike="noStrike">
              <a:solidFill>
                <a:srgbClr val="000000"/>
              </a:solidFill>
              <a:latin typeface="Times New Roman"/>
            </a:endParaRPr>
          </a:p>
          <a:p>
            <a:pPr marL="34308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 1940, Landsteiner and Weiner reported the discovery of the Rh factor by studying the blood of the Rhesus monkey. 85% of Caucasians, 94% of Black Americans and 99% of all Asians are Rh positiv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381ECB8F-730F-4EA9-8FFD-623DB78D15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761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lood Terminology</a:t>
            </a:r>
            <a:endParaRPr b="0" lang="en-US" sz="4400" spc="-1" strike="noStrike">
              <a:solidFill>
                <a:srgbClr val="000000"/>
              </a:solidFill>
              <a:latin typeface="Times New Roman"/>
            </a:endParaRPr>
          </a:p>
        </p:txBody>
      </p:sp>
      <p:sp>
        <p:nvSpPr>
          <p:cNvPr id="104" name="PlaceHolder 2"/>
          <p:cNvSpPr>
            <a:spLocks noGrp="1"/>
          </p:cNvSpPr>
          <p:nvPr>
            <p:ph/>
          </p:nvPr>
        </p:nvSpPr>
        <p:spPr>
          <a:xfrm>
            <a:off x="990360" y="1752480"/>
            <a:ext cx="7543800" cy="3733920"/>
          </a:xfrm>
          <a:prstGeom prst="rect">
            <a:avLst/>
          </a:prstGeom>
          <a:noFill/>
          <a:ln w="0">
            <a:noFill/>
          </a:ln>
        </p:spPr>
        <p:txBody>
          <a:bodyPr lIns="92160" rIns="92160" tIns="46080" bIns="46080" anchor="t">
            <a:normAutofit/>
          </a:bodyPr>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O blood groups</a:t>
            </a:r>
            <a:r>
              <a:rPr b="0" lang="en-US" sz="2000" spc="-1" strike="noStrike">
                <a:solidFill>
                  <a:srgbClr val="000000"/>
                </a:solidFill>
                <a:latin typeface="Arial"/>
                <a:ea typeface="Arial"/>
              </a:rPr>
              <a:t>—</a:t>
            </a:r>
            <a:r>
              <a:rPr b="0" lang="en-US" sz="2000" spc="-1" strike="noStrike">
                <a:solidFill>
                  <a:srgbClr val="000000"/>
                </a:solidFill>
                <a:latin typeface="Arial"/>
              </a:rPr>
              <a:t>based on having an A, B, both or no antigens on red blood cells</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h factor</a:t>
            </a:r>
            <a:r>
              <a:rPr b="0" lang="en-US" sz="2000" spc="-1" strike="noStrike">
                <a:solidFill>
                  <a:srgbClr val="000000"/>
                </a:solidFill>
                <a:latin typeface="Arial"/>
                <a:ea typeface="Arial"/>
              </a:rPr>
              <a:t>—</a:t>
            </a:r>
            <a:r>
              <a:rPr b="0" lang="en-US" sz="2000" spc="-1" strike="noStrike">
                <a:solidFill>
                  <a:srgbClr val="000000"/>
                </a:solidFill>
                <a:latin typeface="Arial"/>
              </a:rPr>
              <a:t>may be present on red blood cells; positive if present and negative if not</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igen</a:t>
            </a:r>
            <a:r>
              <a:rPr b="0" lang="en-US" sz="2000" spc="-1" strike="noStrike">
                <a:solidFill>
                  <a:srgbClr val="000000"/>
                </a:solidFill>
                <a:latin typeface="Arial"/>
                <a:ea typeface="Arial"/>
              </a:rPr>
              <a:t>—</a:t>
            </a:r>
            <a:r>
              <a:rPr b="0" lang="en-US" sz="2000" spc="-1" strike="noStrike">
                <a:solidFill>
                  <a:srgbClr val="000000"/>
                </a:solidFill>
                <a:latin typeface="Arial"/>
              </a:rPr>
              <a:t>a substance that can stimulate the body to make antibodies.  Certain antigens (proteins) found in the plasma of the red blood cell’s membrane account for blood type.</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ibody</a:t>
            </a:r>
            <a:r>
              <a:rPr b="0" lang="en-US" sz="2000" spc="-1" strike="noStrike">
                <a:solidFill>
                  <a:srgbClr val="000000"/>
                </a:solidFill>
                <a:latin typeface="Arial"/>
                <a:ea typeface="Arial"/>
              </a:rPr>
              <a:t>—</a:t>
            </a:r>
            <a:r>
              <a:rPr b="0" lang="en-US" sz="2000" spc="-1" strike="noStrike">
                <a:solidFill>
                  <a:srgbClr val="000000"/>
                </a:solidFill>
                <a:latin typeface="Arial"/>
              </a:rPr>
              <a:t>a substance that reacts with an antigen</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glutination</a:t>
            </a:r>
            <a:r>
              <a:rPr b="0" lang="en-US" sz="2000" spc="-1" strike="noStrike">
                <a:solidFill>
                  <a:srgbClr val="000000"/>
                </a:solidFill>
                <a:latin typeface="Arial"/>
                <a:ea typeface="Arial"/>
              </a:rPr>
              <a:t>—</a:t>
            </a:r>
            <a:r>
              <a:rPr b="0" lang="en-US" sz="2000" spc="-1" strike="noStrike">
                <a:solidFill>
                  <a:srgbClr val="000000"/>
                </a:solidFill>
                <a:latin typeface="Arial"/>
              </a:rPr>
              <a:t>clumping of red blood cells; will result if blood types with different antigens are mixed</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C2DF7C8B-DB4B-45C1-8931-B37F411C0E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68544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Unknown Stain at a Scene</a:t>
            </a:r>
            <a:endParaRPr b="0" lang="en-US" sz="4400" spc="-1" strike="noStrike">
              <a:solidFill>
                <a:srgbClr val="000000"/>
              </a:solidFill>
              <a:latin typeface="Times New Roman"/>
            </a:endParaRPr>
          </a:p>
        </p:txBody>
      </p:sp>
      <p:sp>
        <p:nvSpPr>
          <p:cNvPr id="106" name="PlaceHolder 2"/>
          <p:cNvSpPr>
            <a:spLocks noGrp="1"/>
          </p:cNvSpPr>
          <p:nvPr>
            <p:ph/>
          </p:nvPr>
        </p:nvSpPr>
        <p:spPr>
          <a:xfrm>
            <a:off x="914400" y="1904760"/>
            <a:ext cx="5029200" cy="38098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Questions to be answered:</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blood?</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human blood?</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se is it?</a:t>
            </a:r>
            <a:endParaRPr b="0" lang="en-US" sz="2400" spc="-1" strike="noStrike">
              <a:solidFill>
                <a:srgbClr val="000000"/>
              </a:solidFill>
              <a:latin typeface="Times New Roman"/>
            </a:endParaRPr>
          </a:p>
          <a:p>
            <a:pPr lvl="1" marL="743040" indent="-28584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blood type, alcohol content, drugs present</a:t>
            </a:r>
            <a:endParaRPr b="0" lang="en-US" sz="2400" spc="-1" strike="noStrike">
              <a:solidFill>
                <a:srgbClr val="000000"/>
              </a:solidFill>
              <a:latin typeface="Times New Roman"/>
            </a:endParaRPr>
          </a:p>
          <a:p>
            <a:pPr lvl="1" marL="743040" indent="-28584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method(s) in which blood may have been deposited</a:t>
            </a:r>
            <a:endParaRPr b="0" lang="en-US" sz="2400" spc="-1" strike="noStrike">
              <a:solidFill>
                <a:srgbClr val="000000"/>
              </a:solidFill>
              <a:latin typeface="Times New Roman"/>
            </a:endParaRPr>
          </a:p>
        </p:txBody>
      </p:sp>
      <p:pic>
        <p:nvPicPr>
          <p:cNvPr id="107" name="" descr=""/>
          <p:cNvPicPr/>
          <p:nvPr/>
        </p:nvPicPr>
        <p:blipFill>
          <a:blip r:embed="rId1"/>
          <a:stretch/>
        </p:blipFill>
        <p:spPr>
          <a:xfrm rot="20816400">
            <a:off x="6172200" y="2209320"/>
            <a:ext cx="1414440" cy="2743200"/>
          </a:xfrm>
          <a:prstGeom prst="rect">
            <a:avLst/>
          </a:prstGeom>
          <a:ln w="0">
            <a:noFill/>
          </a:ln>
        </p:spPr>
      </p:pic>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5B2AA056-FB13-415C-A778-2E941A476A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8377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esumptive Tests for</a:t>
            </a:r>
            <a:br>
              <a:rPr sz="4000"/>
            </a:br>
            <a:r>
              <a:rPr b="0" lang="en-US" sz="4000" spc="-1" strike="noStrike">
                <a:solidFill>
                  <a:srgbClr val="000000"/>
                </a:solidFill>
                <a:latin typeface="Arial Black"/>
              </a:rPr>
              <a:t>Blood Determination</a:t>
            </a:r>
            <a:endParaRPr b="0" lang="en-US" sz="4000" spc="-1" strike="noStrike">
              <a:solidFill>
                <a:srgbClr val="000000"/>
              </a:solidFill>
              <a:latin typeface="Times New Roman"/>
            </a:endParaRPr>
          </a:p>
        </p:txBody>
      </p:sp>
      <p:sp>
        <p:nvSpPr>
          <p:cNvPr id="109" name="PlaceHolder 2"/>
          <p:cNvSpPr>
            <a:spLocks noGrp="1"/>
          </p:cNvSpPr>
          <p:nvPr>
            <p:ph/>
          </p:nvPr>
        </p:nvSpPr>
        <p:spPr>
          <a:xfrm>
            <a:off x="914040" y="2514600"/>
            <a:ext cx="7543800" cy="3200400"/>
          </a:xfrm>
          <a:prstGeom prst="rect">
            <a:avLst/>
          </a:prstGeom>
          <a:noFill/>
          <a:ln w="0">
            <a:noFill/>
          </a:ln>
        </p:spPr>
        <p:txBody>
          <a:bodyPr lIns="92160" rIns="92160" tIns="46080" bIns="4608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stle-Meyer color test</a:t>
            </a:r>
            <a:r>
              <a:rPr b="0" lang="en-US" sz="2400" spc="-1" strike="noStrike">
                <a:solidFill>
                  <a:srgbClr val="000000"/>
                </a:solidFill>
                <a:latin typeface="Arial"/>
                <a:ea typeface="Arial"/>
              </a:rPr>
              <a:t>—</a:t>
            </a:r>
            <a:r>
              <a:rPr b="0" lang="en-US" sz="2400" spc="-1" strike="noStrike">
                <a:solidFill>
                  <a:srgbClr val="000000"/>
                </a:solidFill>
                <a:latin typeface="Arial"/>
              </a:rPr>
              <a:t>a mixture of phenolphthalein and hydrogen peroxide; the hemoglobin will cause the formation of a deep pink color if blood is present</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matest</a:t>
            </a:r>
            <a:r>
              <a:rPr b="1" lang="en-US" sz="2400" spc="-1" strike="noStrike">
                <a:solidFill>
                  <a:srgbClr val="000000"/>
                </a:solidFill>
                <a:latin typeface="Arial"/>
                <a:ea typeface="Arial"/>
              </a:rPr>
              <a:t>®</a:t>
            </a:r>
            <a:r>
              <a:rPr b="1" lang="en-US" sz="2400" spc="-1" strike="noStrike">
                <a:solidFill>
                  <a:srgbClr val="000000"/>
                </a:solidFill>
                <a:latin typeface="Arial"/>
              </a:rPr>
              <a:t> tablet</a:t>
            </a:r>
            <a:r>
              <a:rPr b="0" lang="en-US" sz="2400" spc="-1" strike="noStrike">
                <a:solidFill>
                  <a:srgbClr val="000000"/>
                </a:solidFill>
                <a:latin typeface="Arial"/>
                <a:ea typeface="Arial"/>
              </a:rPr>
              <a:t>—</a:t>
            </a:r>
            <a:r>
              <a:rPr b="0" lang="en-US" sz="2400" spc="-1" strike="noStrike">
                <a:solidFill>
                  <a:srgbClr val="000000"/>
                </a:solidFill>
                <a:latin typeface="Arial"/>
              </a:rPr>
              <a:t>reacts with the heme group in blood causing a blue-green color</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minol test</a:t>
            </a:r>
            <a:r>
              <a:rPr b="0" lang="en-US" sz="2400" spc="-1" strike="noStrike">
                <a:solidFill>
                  <a:srgbClr val="000000"/>
                </a:solidFill>
                <a:latin typeface="Arial"/>
                <a:ea typeface="Arial"/>
              </a:rPr>
              <a:t>—</a:t>
            </a:r>
            <a:r>
              <a:rPr b="0" lang="en-US" sz="2400" spc="-1" strike="noStrike">
                <a:solidFill>
                  <a:srgbClr val="000000"/>
                </a:solidFill>
                <a:latin typeface="Arial"/>
              </a:rPr>
              <a:t>reaction with blood to produce ligh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Kendall/Hunt Publishing Company</a:t>
            </a:r>
          </a:p>
        </p:txBody>
      </p:sp>
      <p:sp>
        <p:nvSpPr>
          <p:cNvPr id="5" name="PlaceHolder 4"/>
          <p:cNvSpPr>
            <a:spLocks noGrp="1"/>
          </p:cNvSpPr>
          <p:nvPr>
            <p:ph type="sldNum" idx="2"/>
          </p:nvPr>
        </p:nvSpPr>
        <p:spPr/>
        <p:txBody>
          <a:bodyPr/>
          <a:p>
            <a:fld id="{25E33564-2976-4764-9AB8-E25E635282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9T22:21:34Z</dcterms:created>
  <dc:creator>Barb Weekley</dc:creator>
  <dc:description/>
  <dc:language>en-US</dc:language>
  <cp:lastModifiedBy>Preferred Customer</cp:lastModifiedBy>
  <dcterms:modified xsi:type="dcterms:W3CDTF">2009-02-19T09:59:10Z</dcterms:modified>
  <cp:revision>145</cp:revision>
  <dc:subject/>
  <dc:title>FORENSIC SCIENCE Serology</dc:title>
</cp:coreProperties>
</file>